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EA04-A3F6-4630-8817-D9B6CDAF479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C0AA-EE56-467A-98C7-F06A277D7AE8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3056-CAC2-4EF7-906E-AFDF5D72B8BF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E4082-5544-4A3F-B3AC-2D23892D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BCC78-2482-4DEC-ABA0-FD56182E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19BFA-FB75-4011-8D92-573026E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AE7B1-7EF1-4AAE-883D-2E4648DB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4B260-FB4A-458A-AA7C-B467BA3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50AA3-A742-491F-AC66-A301A3D6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ABAC-813D-4F9A-A79A-DDABFC13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9701D-6ABA-40CE-8D7B-20EE009E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0E4C7-00E4-4A93-8D7B-BC2B8A1C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F4AAA-573A-45F4-8264-18A2A118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26A1E-BE4B-418D-85BF-0BF10D5D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01001-64E7-4BD1-9E6D-1561DDFF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AB896-EC56-4149-9966-A23D818B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6C885-85DE-47F2-9C85-9701F6A7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2FF74-9768-4F6B-8F17-E4296825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D8CA9-67F7-4FB7-ADB0-C2656396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B635A-BF21-4C9C-A100-2AB53BDD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85316-EC91-4BD6-A076-555B450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F4651-DA7C-4B46-9DF2-F5397FE4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47563-BF4E-461E-9450-48ADDF2A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3C849-16C1-4454-93A4-6D33CD27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279F5-D52E-40BE-8E80-948020E8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44F98-9C18-407C-A448-FEC0AB7E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6B02F-7150-46B1-813F-748C1EB2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45155-2230-43F6-AE33-0378CA9B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CBE27-FDD4-4098-A7CA-5A12A8EB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2D40D-0D33-461D-A5E7-0A8502BA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C809A-5755-41F8-AFAD-834252A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01F75-BF74-4604-B836-8CA7423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5AA02-987A-46CC-B998-C1D85618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D5D-4381-4019-8ADF-C94354C5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22D79-76B7-4980-8EFF-6BCD902C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C6930-8580-43CD-B286-5C9B5FE8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3C6DC-29E3-40DF-A6A2-75152951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81F8A-5DB7-414D-ABD6-471E11FF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0A3F5-0840-4736-AF47-519BCB1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D35D1-2281-437F-8405-6566CB08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B7B64-2ED3-4274-AA4A-219718A5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1FA53-5220-4469-8B49-97CD4CA5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39C23-78E9-4289-9D5C-EFDC372D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8EBEA-5C35-497A-B4FB-37DE6D2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720-71B0-40EB-877B-0FF78F27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06129-0B7C-4A55-8967-DBEBB190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924C8-CA33-4B37-866E-A6A9376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77CC5-A162-4093-B201-244886A4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35622-03B9-44B7-B377-03DB35A3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CECE8-6C4C-498E-BA0B-D1EC109C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A0C98-F956-41CD-B5AA-2953AAC8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FCA6B-7B8B-4A45-9C89-33DBA3DA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31456-A53A-4243-A4EF-5D044D1C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4993A-4E98-48EE-B0DD-A389B22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45167-2B5A-4DCB-90A5-C455AD87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45B-247C-4520-AC79-BAEA6172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70390-3A72-4B5C-BF00-BCB2B585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3640C-4CE6-4F66-9E76-9C566C77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FFD8B-E816-4D7B-B0C1-D36B001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94C9C-5EC9-4AB7-9EF8-2272E161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9C284-99E6-476D-8A19-542FF5CF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4A370-462D-4472-8BDA-8C1BA17A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E337D-6A25-4BA3-B248-544D0A5D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289AF-4668-4024-8617-33AC2162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4AACD-E501-487B-9A78-0165613F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3C167-E5E9-4FD8-8414-D8CD8B09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36C-22BE-4FDA-B5DF-D2D5A282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9E44B-1849-454A-A18C-93820051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DB4CE-FCDB-4477-8DC8-06FDECB0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1CCEF-419B-4E2E-B870-B6C41B9D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80258-A134-47B3-A665-DF8A8C7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6B479-1131-44E6-A6DD-C8E00A56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7AA47-EEA6-481A-9C1A-9EB1F257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22A47-309B-40F3-B623-5452D6F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C5016-DB1D-4F14-BAC4-39531433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B8D72-01DF-46FA-B7B6-37F054AB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4B0-3C18-44F9-9487-B2592242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F25-3D83-4BF2-B13B-873DAD9A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FF9-2147-4BA6-BBBC-7DC6412A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08E-4B75-4D3D-9E4C-21C06F8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BE5-4B64-4D52-A1CD-352EA406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CA2-8EBC-48C3-88C8-FF72797E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CB0-DEB8-44B5-8B9F-B03CDAC5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E09-A68F-4124-8E27-6A6D347F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1FBB-1B4F-403E-81A0-D0536BBB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DE61-471E-49D0-B834-B164232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5859-888F-49AA-BB64-871E9354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6031-01D6-41D5-BA9A-114B8E5F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F189-A517-45D1-9272-3F888BD0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5ADD-A471-4715-8CBB-0F7BCEC5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9724-39E1-4C68-8716-0EF4E92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315F-AAB0-48DB-8753-F8195601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8225-8152-4D6E-A04D-05F1FE6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7B73-449B-45FE-8ED7-2DB84C0C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2606-3E8D-4990-BF67-5CAF80C3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D7C8-3C4F-41BE-8F29-F78FC7ED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D102-A406-460C-8E0D-A5C562AD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D808-F36B-4A2C-93AF-0C6004CC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66AE-FD08-4509-856D-070B6BF8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B407-8B30-4CC9-BEDA-99390246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2D58-7A33-48EF-821F-AEBEDEA7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44D1-FE0D-44E0-A58F-814A40C8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B8F3B-EFD8-4CD3-B306-C79F2DC4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60F1-9E26-4340-BF96-0CBDD14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82D2-701D-4E30-8F83-1017DF5C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F2B44-40DA-4EE5-9C9F-231F3146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8D2C-66B4-4245-95AF-22FD0FCC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2989F-5EBE-43C8-A93F-1B11609E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E649-07F7-45EB-8DAB-8D7C9084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19423-70FF-4EF8-9C67-D53BA125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14731-03B6-48B9-B0FE-5D4BE50E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6CDD-94B7-4B0F-9440-7D67FF86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164E-E115-4F12-926F-8698DE8D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10478-DC12-4442-B8B7-C628DD68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54A4-7481-465A-92BB-3F063919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14165-5FEF-4CDE-912A-82566AF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7152-BEB8-4A98-8675-D104507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E873-35E6-4D33-8A89-DD2B3042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8F35-69F8-42C5-A92A-CBA0C52B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9ADD-49F1-4122-9C08-5CA011CB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9D26-9416-4318-81A3-A5339B71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BB98D-0242-46ED-8331-537FF03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04C98-EA06-4CDD-8B50-6AFED610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73E1C-1057-41FF-BA83-A0038D61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22433-6785-4D62-ADC4-888A3246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35F5-987D-4AB3-90CC-8F8AA98F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2FAA-E8ED-4521-BC48-41EB607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A6CD7-66CE-4720-B6EE-8BABB686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F019D-0BC8-49ED-A394-4378570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93EAA-80E0-451B-A939-11A69706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6AFA8-9462-46F2-9462-AEC6D67E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42B63-9C4E-4FAC-9450-3DE56A06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C19C-B821-4163-A422-3FDDBCE4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8174-8CB5-487A-B88C-970395D1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2CE54-853C-464B-82DC-1D41F479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56CDE-0C25-40D4-A44C-C5448D44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03333-ABD6-4229-889F-9C89F6EF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F2D6C-13D5-418E-8E05-A92FF4F2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14ECF-B6FB-40A3-BACE-07045DD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9564-6FC2-4796-A4C1-1C00DD52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4AFF0-C079-47DF-9934-3DC54539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8ADB-D635-48B0-A7DC-4B436E80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43D0-520F-4F02-AC08-A63C943C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8A413-1814-4493-B8C4-5C73C5DC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7CFA5-04D8-478E-8539-E65743F6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3940F-4F73-417E-B2EF-A1D0BA41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632DC-4153-445E-A435-957B75F0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4731-79B3-4B7C-B2C7-0E654FAC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59897-6773-4286-B726-DDB3E892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75B0-1B75-405D-B941-901ECF57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CEE09-42F0-4BD9-8C8E-3DE853AB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CE063-3A99-41C0-80D7-70200A56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5B29C-A5D2-4A4B-8434-47430B74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DE205-89FE-4625-8C83-A0D0820A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2426C-7CD3-4263-98FA-B37E0F78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681A3-9D9F-47BF-B7D9-DBA6DA2E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9A7F7-0CF2-45C2-AF19-C867AFB1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F9F92-1717-4920-A1F1-CDCF1DE3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90354-86A8-4299-A17A-E3EFCBD6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ED12-FCFD-42EE-AB3C-36B8D7FD9B55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11A3-D85C-4AE4-B9E3-2A41CD9C547E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1516-07CA-4C5C-8270-7612705A11D5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8F53-CDA7-441E-8474-E8380C921095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BCA2-FC0D-4893-8E3A-AD19A5A9D65D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9ED-698B-4044-99F6-FDEB2E934195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E8AF-9B72-4D65-B915-9AF167F5C3CA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662A-5200-4ECB-B1D2-15949144D715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9AE8-C857-44FC-B3F1-81B66B1A086C}" type="datetime">
              <a:rPr b="0" lang="es-MX" sz="24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A1C7-51D5-4462-998D-0610DB2AC552}" type="slidenum">
              <a:rPr b="0" lang="es-MX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741D-54E7-419F-8D64-D60BD35157E6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77F5-BDC6-41A2-8F79-65DA6A5A6090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8B63-E0F9-4147-9B70-0F27CD5B6229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FD2-5415-4951-98AB-082C6C4E6AE9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36BA-F18C-40F8-9B22-98A6DDFA33DD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B0B6-D751-4D8C-9BEA-5A25AA70211D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A304-4680-4922-A056-9BBB7EE9B357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59AC-974F-4859-838A-F7538255E693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F0D0-26C7-4C90-8F2D-49762BD6A8BB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C00D-A7C2-49D6-B498-BB93E11F638B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93E6-0182-4CEA-9A1A-10C71C5AAD62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E34E-0BA6-4F1B-ACF9-6073A111CA0C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1533-3696-46A1-9028-763301384037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270E-3090-46EA-877F-BA8F56B50083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67C-4C4B-4E5F-8FD9-21CC3C94D0EA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E437-A763-4CAE-95F9-5BE20F709C39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INSTRUMENTOS PARA LA EVALUACIÓ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AD09-3B79-464E-807D-28C88D2D32A2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611280" y="1411200"/>
            <a:ext cx="7473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LISTA DE COTE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258920" y="2060640"/>
          <a:ext cx="6095880" cy="2244600"/>
        </p:xfrm>
        <a:graphic>
          <a:graphicData uri="http://schemas.openxmlformats.org/drawingml/2006/table">
            <a:tbl>
              <a:tblPr/>
              <a:tblGrid>
                <a:gridCol w="4200480"/>
                <a:gridCol w="934920"/>
                <a:gridCol w="96048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PEC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jó el polígono indic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ó cada uno de los vért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izó el centro de ro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B7BB-3B66-4455-995F-096757927EB1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1 Rectángulo"/>
          <p:cNvSpPr/>
          <p:nvPr/>
        </p:nvSpPr>
        <p:spPr>
          <a:xfrm>
            <a:off x="285840" y="21420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95d63"/>
                </a:solidFill>
                <a:latin typeface="Arial"/>
              </a:rPr>
              <a:t>Quinto grado. Bloque IV.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Hacer una obra de teatro con personajes prototípicos de cu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2 Flecha curvada hacia abajo"/>
          <p:cNvSpPr/>
          <p:nvPr/>
        </p:nvSpPr>
        <p:spPr>
          <a:xfrm rot="20970600">
            <a:off x="3132000" y="620280"/>
            <a:ext cx="3000600" cy="714600"/>
          </a:xfrm>
          <a:custGeom>
            <a:avLst/>
            <a:gdLst>
              <a:gd name="textAreaLeft" fmla="*/ 682920 w 3000600"/>
              <a:gd name="textAreaRight" fmla="*/ 2228040 w 300060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6" hR="21600" stAng="10800000" swAng="5400000"/>
                <a:lnTo>
                  <a:pt x="11121" y="0"/>
                </a:lnTo>
                <a:arcTo wR="9836" hR="21600" stAng="-5400000" swAng="3626784"/>
                <a:lnTo>
                  <a:pt x="21288" y="16200"/>
                </a:lnTo>
                <a:lnTo>
                  <a:pt x="20315" y="21600"/>
                </a:lnTo>
                <a:lnTo>
                  <a:pt x="18717" y="16200"/>
                </a:lnTo>
                <a:lnTo>
                  <a:pt x="19360" y="16200"/>
                </a:lnTo>
                <a:arcTo wR="9836" hR="21600" stAng="-1773216" swAng="-3524338"/>
                <a:lnTo>
                  <a:pt x="10479" y="46"/>
                </a:lnTo>
                <a:arcTo wR="9836" hR="21600" stAng="-5502446" swAng="-5297554"/>
                <a:close/>
              </a:path>
              <a:path fill="darkenLess" w="21600" h="21600">
                <a:moveTo>
                  <a:pt x="0" y="21600"/>
                </a:moveTo>
                <a:arcTo wR="9836" hR="21600" stAng="10800000" swAng="5400000"/>
                <a:lnTo>
                  <a:pt x="9836" y="0"/>
                </a:lnTo>
                <a:arcTo wR="9836" hR="21600" stAng="-5400000" swAng="102446"/>
                <a:lnTo>
                  <a:pt x="10479" y="46"/>
                </a:lnTo>
                <a:arcTo wR="9836" hR="21600" stAng="-5502446" swAng="-5297554"/>
                <a:close/>
              </a:path>
            </a:pathLst>
          </a:custGeom>
          <a:solidFill>
            <a:srgbClr val="4f81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24000" y="1108080"/>
          <a:ext cx="3571560" cy="5694480"/>
        </p:xfrm>
        <a:graphic>
          <a:graphicData uri="http://schemas.openxmlformats.org/drawingml/2006/table">
            <a:tbl>
              <a:tblPr/>
              <a:tblGrid>
                <a:gridCol w="1744560"/>
                <a:gridCol w="182700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tan acerca de las características de los personajes princip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n a los protagonistas y antagonistas de los  cuentos  por su prototip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inguen entre características físicas y psicológ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an el tema acerca del cual se desarrollará la trama de la obra que escribirá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an las escenas, los diálogos, los personaj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riben las escenas en el tipo de texto correspondiente (guió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parci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a  comparat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fican las características psicológicas y fís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fin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ón de teat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ue la estructura del tipo de text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 acotacio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 signos de puntuación que indican expresiones específicas de los personajes(enojo, admiración, sorpresa, etc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escenas y diálogos son coherent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glas  gramaticales y ortográficas están presentes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grpSp>
        <p:nvGrpSpPr>
          <p:cNvPr id="667" name="Group 70"/>
          <p:cNvGrpSpPr/>
          <p:nvPr/>
        </p:nvGrpSpPr>
        <p:grpSpPr>
          <a:xfrm>
            <a:off x="4071960" y="1143000"/>
            <a:ext cx="4357800" cy="5392800"/>
            <a:chOff x="4071960" y="1143000"/>
            <a:chExt cx="4357800" cy="5392800"/>
          </a:xfrm>
        </p:grpSpPr>
        <p:sp>
          <p:nvSpPr>
            <p:cNvPr id="668" name="Rectangle 16"/>
            <p:cNvSpPr/>
            <p:nvPr/>
          </p:nvSpPr>
          <p:spPr>
            <a:xfrm>
              <a:off x="4071960" y="1143000"/>
              <a:ext cx="4357800" cy="365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LISTA DE COT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7"/>
            <p:cNvSpPr/>
            <p:nvPr/>
          </p:nvSpPr>
          <p:spPr>
            <a:xfrm>
              <a:off x="4071960" y="150804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8"/>
            <p:cNvSpPr/>
            <p:nvPr/>
          </p:nvSpPr>
          <p:spPr>
            <a:xfrm>
              <a:off x="6022800" y="1508040"/>
              <a:ext cx="24069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9"/>
            <p:cNvSpPr/>
            <p:nvPr/>
          </p:nvSpPr>
          <p:spPr>
            <a:xfrm>
              <a:off x="4071960" y="1873080"/>
              <a:ext cx="195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20"/>
            <p:cNvSpPr/>
            <p:nvPr/>
          </p:nvSpPr>
          <p:spPr>
            <a:xfrm>
              <a:off x="6022800" y="1873080"/>
              <a:ext cx="376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21"/>
            <p:cNvSpPr/>
            <p:nvPr/>
          </p:nvSpPr>
          <p:spPr>
            <a:xfrm>
              <a:off x="6399360" y="1873080"/>
              <a:ext cx="439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2"/>
            <p:cNvSpPr/>
            <p:nvPr/>
          </p:nvSpPr>
          <p:spPr>
            <a:xfrm>
              <a:off x="6838920" y="1873080"/>
              <a:ext cx="159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Observacio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3"/>
            <p:cNvSpPr/>
            <p:nvPr/>
          </p:nvSpPr>
          <p:spPr>
            <a:xfrm>
              <a:off x="4071960" y="245124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al menos tres características  psicológicas de los protagonist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24"/>
            <p:cNvSpPr/>
            <p:nvPr/>
          </p:nvSpPr>
          <p:spPr>
            <a:xfrm>
              <a:off x="6022800" y="245124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25"/>
            <p:cNvSpPr/>
            <p:nvPr/>
          </p:nvSpPr>
          <p:spPr>
            <a:xfrm>
              <a:off x="6399360" y="245124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26"/>
            <p:cNvSpPr/>
            <p:nvPr/>
          </p:nvSpPr>
          <p:spPr>
            <a:xfrm>
              <a:off x="6838920" y="245124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27"/>
            <p:cNvSpPr/>
            <p:nvPr/>
          </p:nvSpPr>
          <p:spPr>
            <a:xfrm>
              <a:off x="4071960" y="321480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las características de  los textos (guiones de teatro) dramáticos investigad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28"/>
            <p:cNvSpPr/>
            <p:nvPr/>
          </p:nvSpPr>
          <p:spPr>
            <a:xfrm>
              <a:off x="6022800" y="321480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29"/>
            <p:cNvSpPr/>
            <p:nvPr/>
          </p:nvSpPr>
          <p:spPr>
            <a:xfrm>
              <a:off x="6399360" y="321480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0"/>
            <p:cNvSpPr/>
            <p:nvPr/>
          </p:nvSpPr>
          <p:spPr>
            <a:xfrm>
              <a:off x="6838920" y="321480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1"/>
            <p:cNvSpPr/>
            <p:nvPr/>
          </p:nvSpPr>
          <p:spPr>
            <a:xfrm>
              <a:off x="4071960" y="3978360"/>
              <a:ext cx="195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Discuten acerca de la trama y los personajes de la obr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2"/>
            <p:cNvSpPr/>
            <p:nvPr/>
          </p:nvSpPr>
          <p:spPr>
            <a:xfrm>
              <a:off x="6022800" y="3978360"/>
              <a:ext cx="376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3"/>
            <p:cNvSpPr/>
            <p:nvPr/>
          </p:nvSpPr>
          <p:spPr>
            <a:xfrm>
              <a:off x="6399360" y="3978360"/>
              <a:ext cx="439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4"/>
            <p:cNvSpPr/>
            <p:nvPr/>
          </p:nvSpPr>
          <p:spPr>
            <a:xfrm>
              <a:off x="6838920" y="3978360"/>
              <a:ext cx="159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35"/>
            <p:cNvSpPr/>
            <p:nvPr/>
          </p:nvSpPr>
          <p:spPr>
            <a:xfrm>
              <a:off x="4071960" y="455292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36"/>
            <p:cNvSpPr/>
            <p:nvPr/>
          </p:nvSpPr>
          <p:spPr>
            <a:xfrm>
              <a:off x="6022800" y="4552920"/>
              <a:ext cx="376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37"/>
            <p:cNvSpPr/>
            <p:nvPr/>
          </p:nvSpPr>
          <p:spPr>
            <a:xfrm>
              <a:off x="6399360" y="4552920"/>
              <a:ext cx="439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38"/>
            <p:cNvSpPr/>
            <p:nvPr/>
          </p:nvSpPr>
          <p:spPr>
            <a:xfrm>
              <a:off x="6838920" y="4552920"/>
              <a:ext cx="159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39"/>
            <p:cNvSpPr/>
            <p:nvPr/>
          </p:nvSpPr>
          <p:spPr>
            <a:xfrm>
              <a:off x="4071960" y="4917960"/>
              <a:ext cx="195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guión contiene: escenas, diálogos y acotac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40"/>
            <p:cNvSpPr/>
            <p:nvPr/>
          </p:nvSpPr>
          <p:spPr>
            <a:xfrm>
              <a:off x="6022800" y="4917960"/>
              <a:ext cx="376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41"/>
            <p:cNvSpPr/>
            <p:nvPr/>
          </p:nvSpPr>
          <p:spPr>
            <a:xfrm>
              <a:off x="6399360" y="4917960"/>
              <a:ext cx="439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42"/>
            <p:cNvSpPr/>
            <p:nvPr/>
          </p:nvSpPr>
          <p:spPr>
            <a:xfrm>
              <a:off x="6838920" y="4917960"/>
              <a:ext cx="159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43"/>
            <p:cNvSpPr/>
            <p:nvPr/>
          </p:nvSpPr>
          <p:spPr>
            <a:xfrm>
              <a:off x="4071960" y="5345280"/>
              <a:ext cx="195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texto es coherente con respecto a la trama y los diálog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44"/>
            <p:cNvSpPr/>
            <p:nvPr/>
          </p:nvSpPr>
          <p:spPr>
            <a:xfrm>
              <a:off x="6022800" y="5345280"/>
              <a:ext cx="376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6399360" y="5345280"/>
              <a:ext cx="439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46"/>
            <p:cNvSpPr/>
            <p:nvPr/>
          </p:nvSpPr>
          <p:spPr>
            <a:xfrm>
              <a:off x="6838920" y="5345280"/>
              <a:ext cx="159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47"/>
            <p:cNvSpPr/>
            <p:nvPr/>
          </p:nvSpPr>
          <p:spPr>
            <a:xfrm>
              <a:off x="4071960" y="5940360"/>
              <a:ext cx="195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Al hacer la lectura, los actores dan las intenciones mencionad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8"/>
            <p:cNvSpPr/>
            <p:nvPr/>
          </p:nvSpPr>
          <p:spPr>
            <a:xfrm>
              <a:off x="6022800" y="5940360"/>
              <a:ext cx="376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49"/>
            <p:cNvSpPr/>
            <p:nvPr/>
          </p:nvSpPr>
          <p:spPr>
            <a:xfrm>
              <a:off x="6399360" y="5940360"/>
              <a:ext cx="439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50"/>
            <p:cNvSpPr/>
            <p:nvPr/>
          </p:nvSpPr>
          <p:spPr>
            <a:xfrm>
              <a:off x="6838920" y="5940360"/>
              <a:ext cx="159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51"/>
            <p:cNvSpPr/>
            <p:nvPr/>
          </p:nvSpPr>
          <p:spPr>
            <a:xfrm>
              <a:off x="6022800" y="1508040"/>
              <a:ext cx="0" cy="502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52"/>
            <p:cNvSpPr/>
            <p:nvPr/>
          </p:nvSpPr>
          <p:spPr>
            <a:xfrm>
              <a:off x="639936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53"/>
            <p:cNvSpPr/>
            <p:nvPr/>
          </p:nvSpPr>
          <p:spPr>
            <a:xfrm>
              <a:off x="683892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54"/>
            <p:cNvSpPr/>
            <p:nvPr/>
          </p:nvSpPr>
          <p:spPr>
            <a:xfrm>
              <a:off x="4071960" y="1508040"/>
              <a:ext cx="43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55"/>
            <p:cNvSpPr/>
            <p:nvPr/>
          </p:nvSpPr>
          <p:spPr>
            <a:xfrm>
              <a:off x="4071960" y="1873080"/>
              <a:ext cx="19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56"/>
            <p:cNvSpPr/>
            <p:nvPr/>
          </p:nvSpPr>
          <p:spPr>
            <a:xfrm>
              <a:off x="6022800" y="1873080"/>
              <a:ext cx="240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57"/>
            <p:cNvSpPr/>
            <p:nvPr/>
          </p:nvSpPr>
          <p:spPr>
            <a:xfrm>
              <a:off x="4071960" y="245124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58"/>
            <p:cNvSpPr/>
            <p:nvPr/>
          </p:nvSpPr>
          <p:spPr>
            <a:xfrm>
              <a:off x="4071960" y="3214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Line 59"/>
            <p:cNvSpPr/>
            <p:nvPr/>
          </p:nvSpPr>
          <p:spPr>
            <a:xfrm>
              <a:off x="4071960" y="3978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Line 60"/>
            <p:cNvSpPr/>
            <p:nvPr/>
          </p:nvSpPr>
          <p:spPr>
            <a:xfrm>
              <a:off x="4071960" y="455292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61"/>
            <p:cNvSpPr/>
            <p:nvPr/>
          </p:nvSpPr>
          <p:spPr>
            <a:xfrm>
              <a:off x="4071960" y="49179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62"/>
            <p:cNvSpPr/>
            <p:nvPr/>
          </p:nvSpPr>
          <p:spPr>
            <a:xfrm>
              <a:off x="4071960" y="534528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63"/>
            <p:cNvSpPr/>
            <p:nvPr/>
          </p:nvSpPr>
          <p:spPr>
            <a:xfrm>
              <a:off x="4071960" y="5940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64"/>
            <p:cNvSpPr/>
            <p:nvPr/>
          </p:nvSpPr>
          <p:spPr>
            <a:xfrm>
              <a:off x="40719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65"/>
            <p:cNvSpPr/>
            <p:nvPr/>
          </p:nvSpPr>
          <p:spPr>
            <a:xfrm>
              <a:off x="84297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66"/>
            <p:cNvSpPr/>
            <p:nvPr/>
          </p:nvSpPr>
          <p:spPr>
            <a:xfrm>
              <a:off x="4071960" y="11430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67"/>
            <p:cNvSpPr/>
            <p:nvPr/>
          </p:nvSpPr>
          <p:spPr>
            <a:xfrm>
              <a:off x="4071960" y="6535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57 Marcador de número de diapositiva"/>
          <p:cNvSpPr/>
          <p:nvPr/>
        </p:nvSpPr>
        <p:spPr>
          <a:xfrm>
            <a:off x="6553080" y="6564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72C7-8A66-4904-91D6-B8913D792C4F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6383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CALA DE VALOR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iene enunciados sobre una serie de características, cualidades, aspectos, etc., acompañados de una escala graduada sobre lo que interesa medi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grado de presencia de las características se expresa mediante categorías cuantitativas o cualita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pueden utilizar escalas numéricas, gráficas y descriptivas para definir las categorí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7029-8127-4FD3-9CB5-5EB44FDEF8F5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5973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jemplos de categorí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95280" y="1844640"/>
          <a:ext cx="8137440" cy="37353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nt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l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ra fo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0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h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c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mpr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siemp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ec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nunca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ci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72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8C37-E34F-4439-A844-82EB5BE3F866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GISTRO ANECDÓ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onsiste en la descripción de incidentes o hechos que se consideran "críticos" porque manifiestan un comportamiento representativo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videncia, objetiva y longitudinal, de las actitudes y comportamientos mantenidos por el estudiante, de las causas o motivaciones de su comportamiento, así como de si se ha producido algún cambi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porciona la fecha, el lugar y el contexto de ocurrencia, la descripción de un incidente particular y una primera valoración provision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784E-4BCC-4ABE-AA26-120D554082A9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42960" y="1428840"/>
            <a:ext cx="74739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REGISTRO ANECD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571680" y="2214720"/>
            <a:ext cx="806436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estro:  Manuel Porras       Alumna: Adriana Bauer     Fecha 21/5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pción:  Adriana no hizo formación para entrar al aula. Entró con retardo de diez minutos, se sentó, abrió su cuaderno y comenzó a escribir. Al acercarme noté que hacía garabatos en su cuaderno, simulaba escrib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retación: La actitud de Adriana pudo haber obedecido a que debía traer de su casa una cámara filmadora que ella ofreció espontáneamente para grabar la clase. No la trajo,  es posible que evadió la situación para no dar explic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15D6-014D-4D96-B66C-1BD58E4E89FF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0" y="0"/>
          <a:ext cx="9072720" cy="6885000"/>
        </p:xfrm>
        <a:graphic>
          <a:graphicData uri="http://schemas.openxmlformats.org/drawingml/2006/table">
            <a:tbl>
              <a:tblPr/>
              <a:tblGrid>
                <a:gridCol w="1744560"/>
                <a:gridCol w="1339920"/>
                <a:gridCol w="1089000"/>
                <a:gridCol w="1352520"/>
                <a:gridCol w="906480"/>
                <a:gridCol w="1114560"/>
                <a:gridCol w="1525680"/>
              </a:tblGrid>
              <a:tr h="257400"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 para la Evaluación del Desempeñ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grid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Conceptu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Procedime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tudes y Val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bilidades del Pensamien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xiliar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</a:tr>
              <a:tr h="98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chos y da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ios y concep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as Ment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0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ción de Probl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51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todo de ca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27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 Rúb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cnica de la Pregu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2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say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40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afol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9132-78D2-4F60-ACC9-AF805027D492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TAFOLI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 un sistema de evaluación que comprende la compilación sistemática de trabajos, materiales y actividades que desarrolla el estudiante durante un periodo determin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muestra evidencias y vivencias de aprendizaje que facilitan la apreciación del progreso del alumno y su apropiación de determinados conocimient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96F5-68C1-45AB-A0E9-8FFE7E439D9E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2840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observa el proceso de aprendizaje de cada alumno en particula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ja espacio para considerar las diferencias individuales entre los estudiant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nvolucra a los estudiantes en la reflexión sobre su progre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Recoge una amplia gama de desempeños con una perspectiva del desarrollo continu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Permite una evaluación colaborativ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3085-E2E3-41EF-B30C-43D59298D6CC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Tiempo que demanda su revisión y definición de criterios de correc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finir claramente el propósito de las carpet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mplican un gran esfuerzo de organización, gestión y registro de la inform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ignifica un trabajo intenso y continuo de revisión y diálogo permanente con los alumnos, lo que hace de la carpeta una actividad que supera en tiempo a la corrección de cualquier tipo de prueb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0A4E-D1E7-4A48-A762-B6C371318EC9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3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ÚBRICA O MATRIZ DE VERIFIC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71400"/>
            <a:ext cx="7686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herramienta de corroboración que contiene los criterios específicos de calidad esperados de un proceso o producto expresados en una escala descrip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tablece una gradación en niveles de calidad del desempeño en situaciones que pueden ser complejas, imprecisas y/o subje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4609-2DBA-4E84-893E-83C0C8BCF11E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42560" y="1356840"/>
            <a:ext cx="800100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romueve expectativas claras de aprendiza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porciona una retroalimentación eficiente y especifica con respecto de las áreas de fortaleza y debilida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Es conveniente para la evaluación de objetivos tanto de proceso como de product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mueve la autoevaluación para orientar procedimiento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Minimiza la subjetividad en la calific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6692-3875-4D61-8079-D2FBD1FCB162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2 CuadroTexto"/>
          <p:cNvSpPr/>
          <p:nvPr/>
        </p:nvSpPr>
        <p:spPr>
          <a:xfrm>
            <a:off x="357120" y="5000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 grado. Bloque II.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Leer el periód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00040" y="2000160"/>
          <a:ext cx="7929720" cy="3784680"/>
        </p:xfrm>
        <a:graphic>
          <a:graphicData uri="http://schemas.openxmlformats.org/drawingml/2006/table">
            <a:tbl>
              <a:tblPr/>
              <a:tblGrid>
                <a:gridCol w="2357640"/>
                <a:gridCol w="1990440"/>
                <a:gridCol w="1866960"/>
                <a:gridCol w="171468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egor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 log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 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 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organización del 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al menos tres secciones  del periódico y las ejemplif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secciones  del periód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que se divide en sec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función de las marcas grá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cuál es la noticia importante por la tipografía y ubicación en el periód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otra noticia por la tipografía , que no es la import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otra noticia por la tipograf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cipa la información a partir de letras conocidas o por la extensión del te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el título de la noticia y su contenido a partir de reconocer  letras  y por la extensión de los enunci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o deduce el título de  la noticia partir de reconocer  letras  iniciales  y finales  y, por las fotografí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parcialmente la información a partir de fotograf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654" name="3 CuadroTexto"/>
          <p:cNvSpPr/>
          <p:nvPr/>
        </p:nvSpPr>
        <p:spPr>
          <a:xfrm>
            <a:off x="3651120" y="14288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ÚB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9C5F-78C1-4093-9328-5E98853BC1FC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ISTA DE COTEJ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lista de características, aspectos, cualidades, secuencia de acciones, etc., evidenciables  sobre las que interesa determinar su presencia y ausenci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medir variables en términos dicotómic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hacer registros de conductas observadas en grupos    numeros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77F-F7EC-4D0A-9583-92888CB7E6C7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99680" y="692280"/>
            <a:ext cx="774396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registro demanda poco tiemp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análisis de los datos resulta una operación generalmente rápid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permite evaluar varios momentos en el desarrollo de un proceso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DCFE-8F84-4850-8E6A-B89056461162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2:44:45Z</dcterms:created>
  <dc:creator>GGRM</dc:creator>
  <dc:description/>
  <dc:language>en-US</dc:language>
  <cp:lastModifiedBy>Betty</cp:lastModifiedBy>
  <dcterms:modified xsi:type="dcterms:W3CDTF">2010-02-08T14:13:34Z</dcterms:modified>
  <cp:revision>244</cp:revision>
  <dc:subject/>
  <dc:title>Diapositiva 1</dc:title>
</cp:coreProperties>
</file>