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4F34-56D1-469C-AF9E-5D1B5CFCD84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BFE1-D53B-4354-906C-C8CDC14731AB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23EE-074E-444E-8B32-4E21B36FEC75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94D84-F959-4106-B49B-6A969EB3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6A073-C442-43ED-B18B-FB95731B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AD62A-84DE-45EB-BAE3-8E24CFB9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8008A-9B14-46FD-9614-33278E81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3DE74-D0C7-414B-B252-4E589D95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D1624-59F8-42EF-BC07-14FAA5EC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DDD2E-F4B1-4495-8B66-20E2AFC4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05E0D-32DF-4B30-BA49-FB6C3E17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28D87-A0CD-4DB1-9B7F-0339A7B0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58488-3CBA-4D64-9EA2-1D53E13A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54290-F8CD-4B89-99C7-3CC85E9C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75611-83CF-423B-B97E-D39E308A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FCA56-8836-4B67-81E2-37E08137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E50A2-0AC8-4579-9E41-E8ABE5BD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A6F0D-0691-495C-9D2F-FCB6BE28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C48A8-404B-4E97-8B44-1151465C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29706-8886-47CD-84AE-C6735D06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AC43D-82EE-4C09-8315-11D97991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1B997-2FDB-4F38-B003-CC95002F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A2880-A675-47C3-AE35-8B11597E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80F27-74F4-4E0B-AA89-FEFE97EF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5AA9D-1874-4365-BEAE-C2BBE029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897A7-503B-4FCC-AE12-0139A641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50EF0-98B9-42E2-B1DB-C6C652B8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CF2F2-AF3B-4ABF-8D3F-AC87962B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1A86B-4DF5-491D-AE30-AA54A014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3E192-4EB9-4EE8-8F83-21854912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E1879-78AA-4E8A-A2A0-4AFBCA11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73A33-06B4-4241-BAA8-06C0F438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1E8E9-AD5D-42C5-A189-187CFF6E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6E8-EF49-4FEA-B276-A0678FF9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D28C7-88D2-4C40-BF5E-4A18D078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7232E-A899-4632-A37B-EB14FF5E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877D3-F190-449C-BAB9-2A441F2F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EFC04-F9A0-435D-937D-9CF3E980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DB5D7-D100-4864-8B5A-8913E0AE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4C303-3D2F-4A56-8ECD-9BD41295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20765-ABC7-4B28-ADB4-F9E08C3F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9391A-0398-4F6C-8616-58332F2C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3DB22-C9B5-459A-B9B7-90F998AF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D1BD8-0B2D-4E0C-8D05-08E02CC6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93D-546D-410D-B694-46684BD8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FDE70-A23A-4DF0-8E9F-6B1E3ECB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EC67C-92A4-4C64-A323-442634DD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7AE0C-F602-473F-B0E8-FBBF26A3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FE1EB-4E54-43C1-A0D0-8C993174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3E584-9513-40A7-BF08-F960D9A2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47A27-48B5-4EFD-B460-09E3464C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7560F-5A33-4317-BF44-539EFA3F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B8C62-8AFE-4AA4-993C-9534AB8A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BF26E-01C9-441F-AF20-DA61DEDF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9C1AD-E717-4B6F-9F72-BCCA9A84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101-5B52-40AC-8132-73B394D1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DBF4B-E78B-4FA7-8776-1B7CE665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03D3B-4DFB-4134-B53A-EF1F0852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DBC93-A79B-4210-891F-44044668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7D19B-E5CB-4AFF-9A73-897DAEB6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FF08C-7734-413D-AA5B-E2D38C97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FC9C5-4314-4B2D-B1D4-48EB5AB1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5589F-9E0E-409A-BCFE-EA075560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3FA54-76D2-4F4C-ACEA-5839A5F3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4F23A-010C-4EAF-A932-0404215A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74692-19C8-4CD2-BBC3-80F66FCA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E34-5B5E-4B93-ABD4-AE63A8E4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FE192-B4A4-4930-A8F1-EE726383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11F0B-8FB8-4649-B208-A2B1BA4F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18850-4B78-4258-9F78-841F67E1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DB675-6ABC-4D72-9848-DFFE39E6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7B505-BD4F-44A1-801F-F7CF82C4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C81AE-574C-4229-A774-57862B9C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E78B46-C1DE-4BD9-86A0-9F082F48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A4225-57E9-4880-A45F-24F3FE29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334D9-8194-48DF-BE7F-1737F1F9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DB2-F65A-4AFE-85A2-610C380D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CF1-3E77-4C66-B6A1-D2D66D1E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A55-B1B2-41A9-9297-75DA82B8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B9C-0221-4077-848B-C1C7B0DF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C78-F3DC-4908-8C82-023EB294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7FF-6E9D-4EE8-8FD7-51D516DE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B5D-40FC-45B3-A42C-F5134D8E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E4C-BD90-4011-9C64-E1BC6FCC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2C7C-B854-447A-BE50-A82E4099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142C-7B08-409E-8533-AF0EAE08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9624-95AC-46AE-AB38-B1393CB9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F2D0-1B66-4FE6-85C1-04E86EFC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B2E0-8CA1-4932-AB7D-4A598E20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FD91-31E4-441D-B5FB-15E0219B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A850-C0C4-4595-817A-E5030054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270E-60B1-4CF0-876B-85CE07D4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9FAA-D8A8-4661-9158-F232983B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96EC-32AF-4095-AF71-0ADB8029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662C-113C-452C-B6CD-1FAAE96A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1A3F-0576-458F-A931-323906F9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27FD5-E593-48F8-A516-C0892208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026DD-B9E7-4A72-BEAD-8FBED74C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E4FD9-1851-406B-9FB6-19691B78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7FE48-7EF4-42DC-AD52-D1AA6DFF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DCA4F-9072-4FC0-B796-C81D5A40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4334-E7D3-4B42-911E-4B0F81CB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4ADD0-8F2A-469C-9AA8-54D968ED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68DF1-D6EE-4882-9E6A-588A2473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229F3-DEA7-474C-A0B5-DD366AE0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8A749-4742-4886-A090-79D2E886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6F386-1AD1-47FE-AAAF-D7858F3D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3FBB1-4A12-402C-B2CC-D281E37C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41AA6-38A6-4EA6-BCAC-09EDFC52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0AD88-53D6-4D34-868C-53F98224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B031F-8F21-43D8-A63C-26762EFC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144B0-BA9A-465B-AAD0-E1D5A496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DAEE5-FA1D-4073-9514-B0656233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D93BE-D9BF-4B81-847C-F1D0E357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9EBBE-DD67-42E8-8D38-640F31DE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C8E32-F404-481F-B230-FB1859F4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988C6-AC5E-4BE9-B60D-CF387664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419FB-50BD-464C-A98D-6BDC12C7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A923A-2BF4-4FE5-A134-6651A6AC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5B6F4-4412-44CF-9621-D5FBE279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7267C-0F95-4594-AFE4-3F039C11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29613-5C7E-46F4-94F2-A191C4AB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39040-B344-45B7-B6ED-CEB19721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10A1F-56EE-496F-B389-E24CE918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3327B-49CF-47AE-BAD1-5C3B37A6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E00DF-5873-4104-9C69-E55732FC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2DECA-C723-4A61-8251-D856622A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BEDB8-B82E-4D64-8E59-799F3372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DE599-A8F4-4C8F-8236-F9BB88F6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6F2EC-69D8-4A2E-8592-E686F064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29193-719C-47E3-B7C6-9548895C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10149-2FB9-4B6B-B8EB-38BF5FAD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6B39F-E023-4D85-8606-7EE9D93A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CDF79-19D8-439A-BC7B-5976EAEC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A545B-F505-448B-A4FC-56A84730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6775E-8C70-43E1-B4B5-2FBD7A40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1C7B7-074C-47E1-9177-947E4A06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94521-4FF9-4FE9-A8DC-307D4C5E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57713-EC9E-4F14-97A9-AF95ACFC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5A411-D3C7-4715-B35C-EBFD199E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6EAD2-2AE1-41BF-A75D-7B91F6C2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5AA03-26C6-4CC6-9BA0-29440E59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9CF3E-6E0D-42A6-9AF1-A1F23E66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7A15C-0A26-4180-B6AD-BF66948C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C58A9-E3FD-49DF-BA2D-0BA8539E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2A12B-88B5-4A89-87E5-9863D99F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C59CA-DF97-43FB-A650-B890F003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F2474-487E-4C66-A588-ECAE5E84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93075-1515-4E14-B9EF-59B3CBC2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8F027-C8E8-427C-9624-B006A31A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3E91D-E4F0-4F05-9FFD-08F98104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76758-E028-4137-8E1B-28A83E34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0D2F0-4622-4C89-8C72-E430C1D9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F75BB-0AD2-4798-B27E-894CAA33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28DBC-1FCD-46D9-9B97-941AABC1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F2DED-5DEC-4156-8385-42869917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CE724-D994-4EFF-816E-26D775B6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6EA52-7F07-460D-A606-50BB6EC1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AFF4E-6E1D-4569-B5C4-A85BB99F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240F-C22D-4322-B46D-595D63A93C1F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4F92-3DB8-4C53-BE86-524A6719BF86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62FF-9C15-4E9B-8762-3C947E5F2ACE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5B76-4EFE-49FD-A8B5-D14E0F82282F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CBDA-39E0-4BD8-B599-6ADA9A885302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2884-A43C-4BBF-9479-3501EA5DE793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86E5-0A26-4099-91CC-CDB921CB0CE2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ADD1-FC4A-48B0-9B81-22EEC274AB12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3609-53E2-4F9C-B680-499953D7D9FC}" type="datetime">
              <a:rPr b="0" lang="es-MX" sz="2400" spc="-1" strike="noStrike">
                <a:solidFill>
                  <a:srgbClr val="ffffff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A633-2538-4664-8A7C-DFAD9E6EDC5C}" type="slidenum">
              <a:rPr b="0" lang="es-MX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FA56-E913-417C-A551-67FD39102984}" type="datetime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31E2-65F3-4355-A72F-7FC62B76F3AB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1BEA-518D-42E7-9CFB-0D1505169B44}" type="datetime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7CC0-9051-482A-9E59-D8C93B30AC01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9A20-3F1B-496B-A5CF-0DCB0164BF6E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FEFA-F8B5-4207-AEF1-9B5CE82904D2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110C-FD85-49C0-9471-132D2D4D431C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8705-5669-4957-BDA3-A1D25B957EDB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081E-5577-4051-91F3-0BA4D79E340F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15B0-765C-42F5-A9EA-01186214F9D6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AB9F-E914-4A34-B448-96F63D989704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8B4E-5C76-4070-9EB4-7513083A7186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30BE-212B-4B44-B564-2598AA2BD754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F855-FFBB-495C-8A12-F9D683C17840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5B31-D65E-4762-98D4-AF8A57BC1562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4F6D-F35A-4BAD-AA69-0B3B16657F4D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92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INSTRUMENTOS PARA LA EVALUACIÓ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C771-5190-4D9D-BEA8-49C671B5523A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611280" y="1411200"/>
            <a:ext cx="74739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ELO DE LISTA DE COTE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258920" y="2060640"/>
          <a:ext cx="6095880" cy="2244600"/>
        </p:xfrm>
        <a:graphic>
          <a:graphicData uri="http://schemas.openxmlformats.org/drawingml/2006/table">
            <a:tbl>
              <a:tblPr/>
              <a:tblGrid>
                <a:gridCol w="4200480"/>
                <a:gridCol w="934920"/>
                <a:gridCol w="96048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PEC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ujó el polígono indic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ó cada uno de los vért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izó el centro de ro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372F-3737-44EF-9FF4-C6F206C4938D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1 Rectángulo"/>
          <p:cNvSpPr/>
          <p:nvPr/>
        </p:nvSpPr>
        <p:spPr>
          <a:xfrm>
            <a:off x="285840" y="214200"/>
            <a:ext cx="835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95d63"/>
                </a:solidFill>
                <a:latin typeface="Arial"/>
              </a:rPr>
              <a:t>Quinto grado. Bloque IV.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Hacer una obra de teatro con personajes prototípicos de cu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2 Flecha curvada hacia abajo"/>
          <p:cNvSpPr/>
          <p:nvPr/>
        </p:nvSpPr>
        <p:spPr>
          <a:xfrm rot="20970600">
            <a:off x="3132000" y="620280"/>
            <a:ext cx="3000600" cy="714600"/>
          </a:xfrm>
          <a:custGeom>
            <a:avLst/>
            <a:gdLst>
              <a:gd name="textAreaLeft" fmla="*/ 682920 w 3000600"/>
              <a:gd name="textAreaRight" fmla="*/ 2228040 w 300060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36" hR="21600" stAng="10800000" swAng="5400000"/>
                <a:lnTo>
                  <a:pt x="11121" y="0"/>
                </a:lnTo>
                <a:arcTo wR="9836" hR="21600" stAng="-5400000" swAng="3626784"/>
                <a:lnTo>
                  <a:pt x="21288" y="16200"/>
                </a:lnTo>
                <a:lnTo>
                  <a:pt x="20315" y="21600"/>
                </a:lnTo>
                <a:lnTo>
                  <a:pt x="18717" y="16200"/>
                </a:lnTo>
                <a:lnTo>
                  <a:pt x="19360" y="16200"/>
                </a:lnTo>
                <a:arcTo wR="9836" hR="21600" stAng="-1773216" swAng="-3524338"/>
                <a:lnTo>
                  <a:pt x="10479" y="46"/>
                </a:lnTo>
                <a:arcTo wR="9836" hR="21600" stAng="-5502446" swAng="-5297554"/>
                <a:close/>
              </a:path>
              <a:path fill="darkenLess" w="21600" h="21600">
                <a:moveTo>
                  <a:pt x="0" y="21600"/>
                </a:moveTo>
                <a:arcTo wR="9836" hR="21600" stAng="10800000" swAng="5400000"/>
                <a:lnTo>
                  <a:pt x="9836" y="0"/>
                </a:lnTo>
                <a:arcTo wR="9836" hR="21600" stAng="-5400000" swAng="102446"/>
                <a:lnTo>
                  <a:pt x="10479" y="46"/>
                </a:lnTo>
                <a:arcTo wR="9836" hR="21600" stAng="-5502446" swAng="-5297554"/>
                <a:close/>
              </a:path>
            </a:pathLst>
          </a:custGeom>
          <a:solidFill>
            <a:srgbClr val="4f81b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324000" y="1108080"/>
          <a:ext cx="3571560" cy="5694480"/>
        </p:xfrm>
        <a:graphic>
          <a:graphicData uri="http://schemas.openxmlformats.org/drawingml/2006/table">
            <a:tbl>
              <a:tblPr/>
              <a:tblGrid>
                <a:gridCol w="1744560"/>
                <a:gridCol w="1827000"/>
              </a:tblGrid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l </a:t>
                      </a: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l </a:t>
                      </a: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DU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ntan acerca de las características de los personajes princip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n a los protagonistas y antagonistas de los  cuentos  por su prototip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inguen entre características físicas y psicológica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an el tema acerca del cual se desarrollará la trama de la obra que escribirá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quejan las escenas, los diálogos, los personaj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riben las escenas en el tipo de texto correspondiente (guió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parcial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a  comparati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fican las características psicológicas y física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final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ón de teat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ue la estructura del tipo de text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 acotacio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 signos de puntuación que indican expresiones específicas de los personajes(enojo, admiración, sorpresa, etc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escenas y diálogos son coherent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reglas  gramaticales y ortográficas están presentes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grpSp>
        <p:nvGrpSpPr>
          <p:cNvPr id="667" name="Group 70"/>
          <p:cNvGrpSpPr/>
          <p:nvPr/>
        </p:nvGrpSpPr>
        <p:grpSpPr>
          <a:xfrm>
            <a:off x="4071960" y="1143000"/>
            <a:ext cx="4357800" cy="5392800"/>
            <a:chOff x="4071960" y="1143000"/>
            <a:chExt cx="4357800" cy="5392800"/>
          </a:xfrm>
        </p:grpSpPr>
        <p:sp>
          <p:nvSpPr>
            <p:cNvPr id="668" name="Rectangle 16"/>
            <p:cNvSpPr/>
            <p:nvPr/>
          </p:nvSpPr>
          <p:spPr>
            <a:xfrm>
              <a:off x="4071960" y="1143000"/>
              <a:ext cx="4357800" cy="3650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LISTA DE COTEJ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7"/>
            <p:cNvSpPr/>
            <p:nvPr/>
          </p:nvSpPr>
          <p:spPr>
            <a:xfrm>
              <a:off x="4071960" y="1508040"/>
              <a:ext cx="195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Indicado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8"/>
            <p:cNvSpPr/>
            <p:nvPr/>
          </p:nvSpPr>
          <p:spPr>
            <a:xfrm>
              <a:off x="6022800" y="1508040"/>
              <a:ext cx="24069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9"/>
            <p:cNvSpPr/>
            <p:nvPr/>
          </p:nvSpPr>
          <p:spPr>
            <a:xfrm>
              <a:off x="4071960" y="1873080"/>
              <a:ext cx="195084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20"/>
            <p:cNvSpPr/>
            <p:nvPr/>
          </p:nvSpPr>
          <p:spPr>
            <a:xfrm>
              <a:off x="6022800" y="1873080"/>
              <a:ext cx="37656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Si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21"/>
            <p:cNvSpPr/>
            <p:nvPr/>
          </p:nvSpPr>
          <p:spPr>
            <a:xfrm>
              <a:off x="6399360" y="1873080"/>
              <a:ext cx="43956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22"/>
            <p:cNvSpPr/>
            <p:nvPr/>
          </p:nvSpPr>
          <p:spPr>
            <a:xfrm>
              <a:off x="6838920" y="1873080"/>
              <a:ext cx="159084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Observacion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23"/>
            <p:cNvSpPr/>
            <p:nvPr/>
          </p:nvSpPr>
          <p:spPr>
            <a:xfrm>
              <a:off x="4071960" y="2451240"/>
              <a:ext cx="195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Mencionan al menos tres características  psicológicas de los protagonistas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24"/>
            <p:cNvSpPr/>
            <p:nvPr/>
          </p:nvSpPr>
          <p:spPr>
            <a:xfrm>
              <a:off x="6022800" y="2451240"/>
              <a:ext cx="376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25"/>
            <p:cNvSpPr/>
            <p:nvPr/>
          </p:nvSpPr>
          <p:spPr>
            <a:xfrm>
              <a:off x="6399360" y="2451240"/>
              <a:ext cx="439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26"/>
            <p:cNvSpPr/>
            <p:nvPr/>
          </p:nvSpPr>
          <p:spPr>
            <a:xfrm>
              <a:off x="6838920" y="2451240"/>
              <a:ext cx="159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27"/>
            <p:cNvSpPr/>
            <p:nvPr/>
          </p:nvSpPr>
          <p:spPr>
            <a:xfrm>
              <a:off x="4071960" y="3214800"/>
              <a:ext cx="195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Mencionan las características de  los textos (guiones de teatro) dramáticos investigad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28"/>
            <p:cNvSpPr/>
            <p:nvPr/>
          </p:nvSpPr>
          <p:spPr>
            <a:xfrm>
              <a:off x="6022800" y="3214800"/>
              <a:ext cx="376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29"/>
            <p:cNvSpPr/>
            <p:nvPr/>
          </p:nvSpPr>
          <p:spPr>
            <a:xfrm>
              <a:off x="6399360" y="3214800"/>
              <a:ext cx="439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0"/>
            <p:cNvSpPr/>
            <p:nvPr/>
          </p:nvSpPr>
          <p:spPr>
            <a:xfrm>
              <a:off x="6838920" y="3214800"/>
              <a:ext cx="159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1"/>
            <p:cNvSpPr/>
            <p:nvPr/>
          </p:nvSpPr>
          <p:spPr>
            <a:xfrm>
              <a:off x="4071960" y="3978360"/>
              <a:ext cx="195084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Discuten acerca de la trama y los personajes de la obr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2"/>
            <p:cNvSpPr/>
            <p:nvPr/>
          </p:nvSpPr>
          <p:spPr>
            <a:xfrm>
              <a:off x="6022800" y="3978360"/>
              <a:ext cx="37656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3"/>
            <p:cNvSpPr/>
            <p:nvPr/>
          </p:nvSpPr>
          <p:spPr>
            <a:xfrm>
              <a:off x="6399360" y="3978360"/>
              <a:ext cx="43956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4"/>
            <p:cNvSpPr/>
            <p:nvPr/>
          </p:nvSpPr>
          <p:spPr>
            <a:xfrm>
              <a:off x="6838920" y="3978360"/>
              <a:ext cx="159084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35"/>
            <p:cNvSpPr/>
            <p:nvPr/>
          </p:nvSpPr>
          <p:spPr>
            <a:xfrm>
              <a:off x="4071960" y="4552920"/>
              <a:ext cx="195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Rectangle 36"/>
            <p:cNvSpPr/>
            <p:nvPr/>
          </p:nvSpPr>
          <p:spPr>
            <a:xfrm>
              <a:off x="6022800" y="4552920"/>
              <a:ext cx="3765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37"/>
            <p:cNvSpPr/>
            <p:nvPr/>
          </p:nvSpPr>
          <p:spPr>
            <a:xfrm>
              <a:off x="6399360" y="4552920"/>
              <a:ext cx="4395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38"/>
            <p:cNvSpPr/>
            <p:nvPr/>
          </p:nvSpPr>
          <p:spPr>
            <a:xfrm>
              <a:off x="6838920" y="4552920"/>
              <a:ext cx="159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Rectangle 39"/>
            <p:cNvSpPr/>
            <p:nvPr/>
          </p:nvSpPr>
          <p:spPr>
            <a:xfrm>
              <a:off x="4071960" y="4917960"/>
              <a:ext cx="195084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El guión contiene: escenas, diálogos y acotac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Rectangle 40"/>
            <p:cNvSpPr/>
            <p:nvPr/>
          </p:nvSpPr>
          <p:spPr>
            <a:xfrm>
              <a:off x="6022800" y="4917960"/>
              <a:ext cx="37656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41"/>
            <p:cNvSpPr/>
            <p:nvPr/>
          </p:nvSpPr>
          <p:spPr>
            <a:xfrm>
              <a:off x="6399360" y="4917960"/>
              <a:ext cx="43956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42"/>
            <p:cNvSpPr/>
            <p:nvPr/>
          </p:nvSpPr>
          <p:spPr>
            <a:xfrm>
              <a:off x="6838920" y="4917960"/>
              <a:ext cx="159084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43"/>
            <p:cNvSpPr/>
            <p:nvPr/>
          </p:nvSpPr>
          <p:spPr>
            <a:xfrm>
              <a:off x="4071960" y="5345280"/>
              <a:ext cx="195084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El texto es coherente con respecto a la trama y los diálog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44"/>
            <p:cNvSpPr/>
            <p:nvPr/>
          </p:nvSpPr>
          <p:spPr>
            <a:xfrm>
              <a:off x="6022800" y="5345280"/>
              <a:ext cx="37656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45"/>
            <p:cNvSpPr/>
            <p:nvPr/>
          </p:nvSpPr>
          <p:spPr>
            <a:xfrm>
              <a:off x="6399360" y="5345280"/>
              <a:ext cx="43956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46"/>
            <p:cNvSpPr/>
            <p:nvPr/>
          </p:nvSpPr>
          <p:spPr>
            <a:xfrm>
              <a:off x="6838920" y="5345280"/>
              <a:ext cx="159084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47"/>
            <p:cNvSpPr/>
            <p:nvPr/>
          </p:nvSpPr>
          <p:spPr>
            <a:xfrm>
              <a:off x="4071960" y="5940360"/>
              <a:ext cx="195084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Al hacer la lectura, los actores dan las intenciones mencionadas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48"/>
            <p:cNvSpPr/>
            <p:nvPr/>
          </p:nvSpPr>
          <p:spPr>
            <a:xfrm>
              <a:off x="6022800" y="5940360"/>
              <a:ext cx="37656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49"/>
            <p:cNvSpPr/>
            <p:nvPr/>
          </p:nvSpPr>
          <p:spPr>
            <a:xfrm>
              <a:off x="6399360" y="5940360"/>
              <a:ext cx="43956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50"/>
            <p:cNvSpPr/>
            <p:nvPr/>
          </p:nvSpPr>
          <p:spPr>
            <a:xfrm>
              <a:off x="6838920" y="5940360"/>
              <a:ext cx="159084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51"/>
            <p:cNvSpPr/>
            <p:nvPr/>
          </p:nvSpPr>
          <p:spPr>
            <a:xfrm>
              <a:off x="6022800" y="1508040"/>
              <a:ext cx="0" cy="502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52"/>
            <p:cNvSpPr/>
            <p:nvPr/>
          </p:nvSpPr>
          <p:spPr>
            <a:xfrm>
              <a:off x="6399360" y="1873080"/>
              <a:ext cx="0" cy="46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53"/>
            <p:cNvSpPr/>
            <p:nvPr/>
          </p:nvSpPr>
          <p:spPr>
            <a:xfrm>
              <a:off x="6838920" y="1873080"/>
              <a:ext cx="0" cy="46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54"/>
            <p:cNvSpPr/>
            <p:nvPr/>
          </p:nvSpPr>
          <p:spPr>
            <a:xfrm>
              <a:off x="4071960" y="1508040"/>
              <a:ext cx="43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55"/>
            <p:cNvSpPr/>
            <p:nvPr/>
          </p:nvSpPr>
          <p:spPr>
            <a:xfrm>
              <a:off x="4071960" y="1873080"/>
              <a:ext cx="19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56"/>
            <p:cNvSpPr/>
            <p:nvPr/>
          </p:nvSpPr>
          <p:spPr>
            <a:xfrm>
              <a:off x="6022800" y="1873080"/>
              <a:ext cx="240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57"/>
            <p:cNvSpPr/>
            <p:nvPr/>
          </p:nvSpPr>
          <p:spPr>
            <a:xfrm>
              <a:off x="4071960" y="245124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58"/>
            <p:cNvSpPr/>
            <p:nvPr/>
          </p:nvSpPr>
          <p:spPr>
            <a:xfrm>
              <a:off x="4071960" y="32148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Line 59"/>
            <p:cNvSpPr/>
            <p:nvPr/>
          </p:nvSpPr>
          <p:spPr>
            <a:xfrm>
              <a:off x="4071960" y="39783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Line 60"/>
            <p:cNvSpPr/>
            <p:nvPr/>
          </p:nvSpPr>
          <p:spPr>
            <a:xfrm>
              <a:off x="4071960" y="455292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Line 61"/>
            <p:cNvSpPr/>
            <p:nvPr/>
          </p:nvSpPr>
          <p:spPr>
            <a:xfrm>
              <a:off x="4071960" y="49179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Line 62"/>
            <p:cNvSpPr/>
            <p:nvPr/>
          </p:nvSpPr>
          <p:spPr>
            <a:xfrm>
              <a:off x="4071960" y="534528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Line 63"/>
            <p:cNvSpPr/>
            <p:nvPr/>
          </p:nvSpPr>
          <p:spPr>
            <a:xfrm>
              <a:off x="4071960" y="59403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64"/>
            <p:cNvSpPr/>
            <p:nvPr/>
          </p:nvSpPr>
          <p:spPr>
            <a:xfrm>
              <a:off x="4071960" y="1143000"/>
              <a:ext cx="0" cy="539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Line 65"/>
            <p:cNvSpPr/>
            <p:nvPr/>
          </p:nvSpPr>
          <p:spPr>
            <a:xfrm>
              <a:off x="8429760" y="1143000"/>
              <a:ext cx="0" cy="539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66"/>
            <p:cNvSpPr/>
            <p:nvPr/>
          </p:nvSpPr>
          <p:spPr>
            <a:xfrm>
              <a:off x="4071960" y="11430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67"/>
            <p:cNvSpPr/>
            <p:nvPr/>
          </p:nvSpPr>
          <p:spPr>
            <a:xfrm>
              <a:off x="4071960" y="65358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57 Marcador de número de diapositiva"/>
          <p:cNvSpPr/>
          <p:nvPr/>
        </p:nvSpPr>
        <p:spPr>
          <a:xfrm>
            <a:off x="6553080" y="6564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D784-F221-4F66-B45C-07614EEF902C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6383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SCALA DE VALOR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56840" y="160020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ntiene enunciados sobre una serie de características, cualidades, aspectos, etc., acompañados de una escala graduada sobre lo que interesa medi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grado de presencia de las características se expresa mediante categorías cuantitativas o cualitativ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e pueden utilizar escalas numéricas, gráficas y descriptivas para definir las categorí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80F8-ED9C-41D0-9E2C-745C51A309B1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71720" y="142920"/>
            <a:ext cx="65973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jemplos de categorí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395280" y="1844640"/>
          <a:ext cx="8137440" cy="3735360"/>
        </p:xfrm>
        <a:graphic>
          <a:graphicData uri="http://schemas.openxmlformats.org/drawingml/2006/table">
            <a:tbl>
              <a:tblPr/>
              <a:tblGrid>
                <a:gridCol w="2712960"/>
                <a:gridCol w="2711520"/>
                <a:gridCol w="271296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antitativ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alitativ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ra for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0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ch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c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mpr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i siemp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vec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i nunca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y buen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fici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ici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ci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72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F335-5847-49F1-8DD9-7FEE3EB399DF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GISTRO ANECDÓ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onsiste en la descripción de incidentes o hechos que se consideran "críticos" porque manifiestan un comportamiento representativo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videncia, objetiva y longitudinal, de las actitudes y comportamientos mantenidos por el estudiante, de las causas o motivaciones de su comportamiento, así como de si se ha producido algún cambi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roporciona la fecha, el lugar y el contexto de ocurrencia, la descripción de un incidente particular y una primera valoración provision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84C7-2014-4AA7-BC47-F487D77AAE3C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642960" y="1428840"/>
            <a:ext cx="74739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ELO DE REGISTRO ANECDÓ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571680" y="2214720"/>
            <a:ext cx="806436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estro:  Manuel Porras       Alumna: Adriana Bauer     Fecha 21/5/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ripción:  Adriana no hizo formación para entrar al aula. Entró con retardo de diez minutos, se sentó, abrió su cuaderno y comenzó a escribir. Al acercarme noté que hacía garabatos en su cuaderno, simulaba escrib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pretación: La actitud de Adriana pudo haber obedecido a que debía traer de su casa una cámara filmadora que ella ofreció espontáneamente para grabar la clase. No la trajo,  es posible que evadió la situación para no dar explic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F023-669F-4802-BD7E-2469ABB647E4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4" name=""/>
          <p:cNvGraphicFramePr/>
          <p:nvPr/>
        </p:nvGraphicFramePr>
        <p:xfrm>
          <a:off x="0" y="0"/>
          <a:ext cx="9072720" cy="6885000"/>
        </p:xfrm>
        <a:graphic>
          <a:graphicData uri="http://schemas.openxmlformats.org/drawingml/2006/table">
            <a:tbl>
              <a:tblPr/>
              <a:tblGrid>
                <a:gridCol w="1744560"/>
                <a:gridCol w="1339920"/>
                <a:gridCol w="1089000"/>
                <a:gridCol w="1352520"/>
                <a:gridCol w="906480"/>
                <a:gridCol w="1114560"/>
                <a:gridCol w="1525680"/>
              </a:tblGrid>
              <a:tr h="257400"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écnicas para la Evaluación del Desempeñ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grid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ido Conceptu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ido Procedimen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tudes y Valo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abilidades del Pensamien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écn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xiliar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</a:tr>
              <a:tr h="98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chos y da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ios y concep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as Ment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a de Cotej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08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ución de Problem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512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étodo de ca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272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70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36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a de Cotejo Rúbric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8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cnica de la Pregun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2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say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240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afol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7518-1BE9-40DE-9D6C-865D333F8482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23888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ORTAFOLIO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 un sistema de evaluación que comprende la compilación sistemática de trabajos, materiales y actividades que desarrolla el estudiante durante un periodo determinad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emuestra evidencias y vivencias de aprendizaje que facilitan la apreciación del progreso del alumno y su apropiación de determinados conocimient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22B2-F70D-4500-A56F-6ABD43C6E036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428400" y="14288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observa el proceso de aprendizaje de cada alumno en particula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Deja espacio para considerar las diferencias individuales entre los estudiant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Involucra a los estudiantes en la reflexión sobre su progres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Recoge una amplia gama de desempeños con una perspectiva del desarrollo continu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Permite una evaluación colaborativ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0F7C-E5A9-42BE-8389-1C77EE304610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Tiempo que demanda su revisión y definición de criterios de correc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Definir claramente el propósito de las carpet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Implican un gran esfuerzo de organización, gestión y registro de la informa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ignifica un trabajo intenso y continuo de revisión y diálogo permanente con los alumnos, lo que hace de la carpeta una actividad que supera en tiempo a la corrección de cualquier tipo de prueb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9371-2704-4D64-A6C8-B59CF403BE94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3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ÚBRICA O MATRIZ DE VERIFIC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571400"/>
            <a:ext cx="76867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 una herramienta de corroboración que contiene los criterios específicos de calidad esperados de un proceso o producto expresados en una escala descriptiv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tablece una gradación en niveles de calidad del desempeño en situaciones que pueden ser complejas, imprecisas y/o subjetiv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665B-A3D9-40C1-8008-E3D84024ABED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142560" y="1356840"/>
            <a:ext cx="800100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romueve expectativas claras de aprendizaj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Proporciona una retroalimentación eficiente y especifica con respecto de las áreas de fortaleza y debilida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Es conveniente para la evaluación de objetivos tanto de proceso como de product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Promueve la autoevaluación para orientar procedimiento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Minimiza la subjetividad en la califica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08C1-465E-4D6B-B492-614E3C3C3CAE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2 CuadroTexto"/>
          <p:cNvSpPr/>
          <p:nvPr/>
        </p:nvSpPr>
        <p:spPr>
          <a:xfrm>
            <a:off x="357120" y="5000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imer grado. Bloque II.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Leer el periódi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500040" y="2000160"/>
          <a:ext cx="7929720" cy="3784680"/>
        </p:xfrm>
        <a:graphic>
          <a:graphicData uri="http://schemas.openxmlformats.org/drawingml/2006/table">
            <a:tbl>
              <a:tblPr/>
              <a:tblGrid>
                <a:gridCol w="2357640"/>
                <a:gridCol w="1990440"/>
                <a:gridCol w="1866960"/>
                <a:gridCol w="171468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tegorí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 log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y Bueno (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 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oce la organización del me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al menos tres secciones  del periódico y las ejemplif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secciones  del periódic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que se divide en sec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oce la función de las marcas gráf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reconoce cuál es la noticia importante por la tipografía y ubicación en el periód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reconoce otra noticia por la tipografía , que no es la importa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otra noticia por la tipografí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cipa la información a partir de letras conocidas o por la extensión del te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uce el título de la noticia y su contenido a partir de reconocer  letras  y por la extensión de los enuncia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o deduce el título de  la noticia partir de reconocer  letras  iniciales  y finales  y, por las fotografí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uce parcialmente la información a partir de fotografí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654" name="3 CuadroTexto"/>
          <p:cNvSpPr/>
          <p:nvPr/>
        </p:nvSpPr>
        <p:spPr>
          <a:xfrm>
            <a:off x="3651120" y="14288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ÚB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3AB0-9FB1-4BFB-91AC-A90BE7981172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ISTA DE COTEJ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 una lista de características, aspectos, cualidades, secuencia de acciones, etc., evidenciables  sobre las que interesa determinar su presencia y ausencia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ermite medir variables en términos dicotómic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ermite hacer registros de conductas observadas en grupos    numeros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0093-C56A-443C-9D21-50E039F2321C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499680" y="692280"/>
            <a:ext cx="774396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registro demanda poco tiemp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análisis de los datos resulta una operación generalmente rápida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o permite evaluar varios momentos en el desarrollo de un proceso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3B9E-C1CD-4BCA-A887-E501BD2F6C30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2:44:45Z</dcterms:created>
  <dc:creator>GGRM</dc:creator>
  <dc:description/>
  <dc:language>en-US</dc:language>
  <cp:lastModifiedBy>Betty</cp:lastModifiedBy>
  <dcterms:modified xsi:type="dcterms:W3CDTF">2010-02-08T14:13:34Z</dcterms:modified>
  <cp:revision>244</cp:revision>
  <dc:subject/>
  <dc:title>Diapositiva 1</dc:title>
</cp:coreProperties>
</file>