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BF65-BBEB-4D66-9580-36FE8CE568D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8D0C-72F3-4690-BE7E-6F37D0C5768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60E0-FFAF-4056-A175-D00220DDE222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305A-C1CE-47A2-A7A6-54A8E8E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FD16-CA6B-4E03-ACBC-50A605D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BC3B7-DDA1-432B-94D4-53D259D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990F7-A4F0-4259-8ABE-1B60E36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740DA-DCF0-4535-9FC9-FF55E7CA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2F0EE-0824-4D88-8844-718B18D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4998D-9258-42C9-9C2E-E3D69E93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27EC-3216-482D-AD75-7497C71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4F02-BC07-4FC0-9249-9997D64F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DAAF0-92F4-4337-8F4E-CDDE5762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C0346-CBDA-45D6-8F2E-8A2385A2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10329-3791-43C3-8BBE-36FC2060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EBA3A-B2BA-4D9D-90E5-221F5932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CDDAB-A448-4FBC-90C1-22706E9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FFFC5-B3CF-41B0-A993-4D1988F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4D1DE-ECAC-42DB-AA8C-A968C6E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96D55-FF04-407F-8178-27C356A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1AA72-0FBB-4A86-B85B-A08D3B26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4236B-EAC1-408B-A21F-E472A19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7E087-29C3-4659-A8C7-915C7A4E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3474C-EBEE-41DF-B061-513FF9B4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620BD-BB6E-4E97-AB62-D7DCBC50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D12F9-6FDE-4EAD-B859-0EA1979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CD31B-D1E3-441A-AC1F-F3740DA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72B78-6B0E-42D5-9013-6DC2F5F7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AC91F-750C-411B-90B1-ABBC2AB8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4463-64AC-4B18-814B-1AEAF85B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B42F5-90C3-4BCA-B203-5FA65AB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C8967-5773-4F92-B3BA-507849F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54AD9-A8C3-40B4-948C-58A5646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796-E5AE-4C6A-9959-3C0752E4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1ABDB-9094-4D81-9E2E-C4161C7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D2BA2-BCA2-4826-91E5-CB79FDC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91A70-6B3F-4BE0-8987-3DB2393E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ECAAF-29D5-401A-9BD9-64E350FA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6ADFC-5B31-4717-9344-1A21369E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26E43-CD15-4966-B3A0-8788E5F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C18C-7DFF-4411-9072-D07AF3D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8403C-8A35-40AF-B8C4-C98F6F1E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CD11B-EBCB-4EA2-A471-C29A98CB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55C0-DBC0-4303-B4BF-36DAF93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F64-2A9F-4F2D-8336-C0E212A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A15DB-6EFC-4ACF-A371-88A36C8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5320-F4B3-498C-B9F8-32CF7DC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CD061-53B4-4B1B-8C7C-722BF40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42CE1-580B-4BC3-9B95-06048CEC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C12FE-E83E-439F-A6CE-D2884B1D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418BF-AF45-431D-8880-EACD4365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E0DBF-B19A-4A75-A7D2-3A74232A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73045-AAD5-450E-B854-121F69DE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38CD4-DE76-4AED-9F45-62580C7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10D65-15BB-4C6A-9C18-3BB2AD8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490-7509-4DA5-ADC5-88402D9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2779F-AAE4-459B-8557-C61A617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E876F-3B05-4BE6-A287-C54C578F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EC312-7CB5-475E-A89A-2432C81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35F30-45FD-43B2-A546-2859BDD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1DC47-3710-427F-8D94-147CA0CF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FF0F7-8893-463D-9810-3886C3C6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BAC22-59C9-4C21-B9FC-22A843DA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46AD0-E7C5-4224-98EB-A9BAF52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68B0A-DE57-4370-AC2A-C4059EF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4790C-BEF0-49DC-A148-A9061335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251-8FC1-4595-B1A1-752EFF07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9C397-5F08-4258-B7B6-F3C4933D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E87A5-1174-4E6D-9207-DA407D9B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58A96-9749-4EC8-9BDC-8F52CAC6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1B87C-0391-4781-957C-772BDC8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323CA-CA0D-4ECF-BF36-E0426D5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68FF2-A81C-423B-92F5-75286A6E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DD4CA-3C5E-4A83-9664-BED3416F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0FE49-11C9-41E6-B7BC-1C399C14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3017C-A28A-40D7-B186-25D81144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3EB-6D64-4756-9848-DE6B1B2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247-CD69-41A5-AE28-19EDCCE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D2C-F577-40BB-B95F-0356DFA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107-E4A8-4093-A98D-D5557B0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DAA-A444-4228-BA18-E8C8673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F5E-020E-43A2-986E-22479137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FB7-5534-4AFD-AF0A-908DFAE2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023-8616-4A43-8A90-C324F1D7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A688-F8D1-4C28-9FCB-A8E43DB0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B075-0464-4D27-9E06-D18A49E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089-82B8-44CB-A685-35357CB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E8E-EB1D-483B-85DD-11770FE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7655-59A4-45CD-97AD-D9659F12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8280-B7CB-4B04-905A-CC95971F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FDC-BE66-4EC1-A3DF-5822805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7079-4DF6-4126-9146-B068852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A40-5CA6-4296-B9D7-6B01BD1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E0A8-D728-4201-8EDE-E1B0787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E580-B6C0-4381-8E4B-6C37DF7A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39AA-961A-40A6-9510-941B1F69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D149-AD9F-4AF5-B9CA-06D89C78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49D1-3CEC-4653-B873-AD19041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B340-E670-4CDC-BD45-CCBCF4A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893F6-38D6-4A21-8E1B-660302C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F824-B57F-4940-9E1E-0015D8E5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FAD6-6AC9-4C3E-B319-048AAAE5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D9B0-6F1E-47CC-A5D6-A784977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C1A7-481B-435D-9CE5-CCF4EA9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73ED-F1DA-44CE-8229-BAEBF63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3AC3-AAEC-4951-BD71-DF56A9C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6795-1FEA-4149-AEE3-077D9DFD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8FF4-46E9-4768-A7A0-7A5A0751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2E4D-6DBB-457B-B318-B4C3803E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8ACBF-ABB7-49A6-94F6-92CEBAE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F6A9-B2BC-4174-8A34-FD3BA89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FBC9-C8FF-470E-B235-19C658C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F5BF-D799-46A1-80C5-C7D8BC8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5F0D-9A3A-4FE9-8FBB-571261A2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C3010-75AE-4E46-A507-4D3B1E4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4AF6-243C-4DD2-8503-6754581D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192D-E799-4469-AFA4-F83FB9D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7951-89A0-4AE0-9814-947C397B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97806-EE1E-4485-815B-2C753386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F582-5607-4306-90C4-148397FD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E9DF-09AB-47E1-8C4C-B8CE6D1E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6B29-368D-4373-8491-774CDC12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A83D-1BD8-43D1-89BB-3EE7907C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1A25-8A11-4D21-9563-EA01B2BD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1DCF-8211-4004-93BC-796681A1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9088-B719-4BE9-89D2-35E0ACFD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8E50-4CAA-4F05-95A5-6AA5E35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7B3B-82E5-4B9C-9181-0C7FC8B5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1C1E-E0DF-4EAB-9482-CAC256F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73AD-5B83-49DC-832D-08CA042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3B8A-C766-431D-B946-75729054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E2846-023F-4B27-A2FB-D03FC4BA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A395-6789-498F-879C-81E28EA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310D-1581-4DB3-B00E-6E071F4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EEA3-F173-48FC-9F1B-5CB32281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982E2-CF1F-485A-9BE7-1B4E3741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5C2F3-44D0-48DB-8F56-DDBD00F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D08C-2E91-45CB-A344-C8399C34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3728-7FAC-4A7D-B03D-14CBC03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33E4-A5E4-4659-A030-E178BC1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F3408-AD50-4DCE-921A-0EA8534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8B23-DD00-4E91-AE55-2C292D90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4E6B-7695-4731-A1BD-9CFFDD9F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79C4-A433-4EC4-A5A3-8605FB07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A4DB6-52D7-4DFD-9CF7-ADBD1753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F414-34A6-4FC5-91C8-18F5BA3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851A-4F49-4555-A440-CCE8143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C378-054A-4DE0-867C-23999EBD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3E64-2022-4AB6-9D3B-55D83A2F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8309-81B3-4580-AA88-1B360603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664D4-A795-464B-B9D0-6C62AA7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2B40E-27F0-41EC-B9A9-5C210C6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9943-E8ED-4713-95AC-D950BE8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C7BE-19FF-4BF6-AF31-3EC4BE2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A154-9EEC-4D9B-BD33-0671A5E0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D99B4-B51B-4E31-8555-0EA97A21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1492E-F3AB-45DE-9BFA-2019149D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F1588-C221-4FAE-9EAD-54D509A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E68F-5D8C-4081-B17A-30EA3F91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7E1A-2742-4D32-B024-26BB78A58B6C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632D-BDC5-4F4A-9DBD-F56730F2F699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E78A-EBA2-46BF-8A65-12CF698E0D6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AF84-8918-49BB-9CB0-A6C5B484CFB8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8B3A-A385-4A6D-9EBB-A9EC4F76EE7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778A-4CE8-4E4E-98F2-73D66164825C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33F-28C5-4AD9-9914-FAFCC8721D95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CBF1-A3FF-4FD6-B51E-9C0C87EFC96E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93A-3E4C-4505-94C2-291370327925}" type="datetime">
              <a:rPr b="0" lang="es-MX" sz="24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9C0A-EB83-42F2-90B5-E4689F092355}" type="slidenum">
              <a:rPr b="0" lang="es-MX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FFC-BF4B-441B-BFFE-FB8BB01770DE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D24A-6D70-4A29-BD92-90525CEF920C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A9CC-E3DC-496A-8D9C-A005AE62EA03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7BF6-C4AD-4331-BC3F-52811CE97F18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AED-1CD1-4567-880A-FF3CAE408183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F4B2-C86B-4716-ABEF-5FAB1B48DC92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8D3D-C731-4BC3-BF03-19E6DAE6920F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C0C-0ABF-4783-A734-84EB9DAAD25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9E2-26B6-4206-AAE3-0E67B240C2C0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864-E5F4-41FA-9C6B-AE211924A70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D3F-CF99-4DB5-8257-9BA057285FBD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34E2-CD8C-4F9D-BD90-33166735C3F5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218-8412-4C01-8A67-7560F533BAFB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B038-3F16-410C-81D7-9E615FB33C5E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C40-7D3B-4B00-BF8B-F1211D5AF3A0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3B79-57C1-4423-9585-557C3FD99248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INSTRUMENTOS PARA LA EVALU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0A1-A808-4937-851D-2DD6CAD66A39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611280" y="1411200"/>
            <a:ext cx="747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LISTA DE COT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258920" y="2060640"/>
          <a:ext cx="6095880" cy="2244600"/>
        </p:xfrm>
        <a:graphic>
          <a:graphicData uri="http://schemas.openxmlformats.org/drawingml/2006/table">
            <a:tbl>
              <a:tblPr/>
              <a:tblGrid>
                <a:gridCol w="4200480"/>
                <a:gridCol w="934920"/>
                <a:gridCol w="96048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EC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ó el polígono ind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ó cada uno de los vért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izó el centro de ro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E26-47EE-4F19-896B-540B986C0498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1 Rectángulo"/>
          <p:cNvSpPr/>
          <p:nvPr/>
        </p:nvSpPr>
        <p:spPr>
          <a:xfrm>
            <a:off x="285840" y="2142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95d63"/>
                </a:solidFill>
                <a:latin typeface="Arial"/>
              </a:rPr>
              <a:t>Quinto grado. Bloque IV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Hacer una obra de teatro con personajes prototípicos de cu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2 Flecha curvada hacia abajo"/>
          <p:cNvSpPr/>
          <p:nvPr/>
        </p:nvSpPr>
        <p:spPr>
          <a:xfrm rot="20970600">
            <a:off x="3132000" y="620280"/>
            <a:ext cx="3000600" cy="714600"/>
          </a:xfrm>
          <a:custGeom>
            <a:avLst/>
            <a:gdLst>
              <a:gd name="textAreaLeft" fmla="*/ 682920 w 3000600"/>
              <a:gd name="textAreaRight" fmla="*/ 2228040 w 300060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6" hR="21600" stAng="10800000" swAng="5400000"/>
                <a:lnTo>
                  <a:pt x="11121" y="0"/>
                </a:lnTo>
                <a:arcTo wR="9836" hR="21600" stAng="-5400000" swAng="3626784"/>
                <a:lnTo>
                  <a:pt x="21288" y="16200"/>
                </a:lnTo>
                <a:lnTo>
                  <a:pt x="20315" y="21600"/>
                </a:lnTo>
                <a:lnTo>
                  <a:pt x="18717" y="16200"/>
                </a:lnTo>
                <a:lnTo>
                  <a:pt x="19360" y="16200"/>
                </a:lnTo>
                <a:arcTo wR="9836" hR="21600" stAng="-1773216" swAng="-3524338"/>
                <a:lnTo>
                  <a:pt x="10479" y="46"/>
                </a:lnTo>
                <a:arcTo wR="9836" hR="21600" stAng="-5502446" swAng="-5297554"/>
                <a:close/>
              </a:path>
              <a:path fill="darkenLess" w="21600" h="21600">
                <a:moveTo>
                  <a:pt x="0" y="21600"/>
                </a:moveTo>
                <a:arcTo wR="9836" hR="21600" stAng="10800000" swAng="5400000"/>
                <a:lnTo>
                  <a:pt x="9836" y="0"/>
                </a:lnTo>
                <a:arcTo wR="9836" hR="21600" stAng="-5400000" swAng="102446"/>
                <a:lnTo>
                  <a:pt x="10479" y="46"/>
                </a:lnTo>
                <a:arcTo wR="9836" hR="21600" stAng="-5502446" swAng="-5297554"/>
                <a:close/>
              </a:path>
            </a:pathLst>
          </a:custGeom>
          <a:solidFill>
            <a:srgbClr val="4f81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4000" y="1108080"/>
          <a:ext cx="3571560" cy="5694480"/>
        </p:xfrm>
        <a:graphic>
          <a:graphicData uri="http://schemas.openxmlformats.org/drawingml/2006/table">
            <a:tbl>
              <a:tblPr/>
              <a:tblGrid>
                <a:gridCol w="1744560"/>
                <a:gridCol w="18270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n acerca de las características de los personajes princip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n a los protagonistas y antagonistas de los  cuentos  por su prototip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guen entre características físicas y psicológ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an el tema acerca del cual se desarrollará la trama de la obra que escribirá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an las escenas, los diálogos, los personaj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riben las escenas en el tipo de texto correspondiente (guió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parci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a  compar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n las características psicológicas y fís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fin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ón de tea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la estructura del tipo de tex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 acota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 signos de puntuación que indican expresiones específicas de los personajes(enojo, admiración, sorpresa, etc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escenas y diálogos son coher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glas  gramaticales y ortográficas están presentes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pSp>
        <p:nvGrpSpPr>
          <p:cNvPr id="667" name="Group 70"/>
          <p:cNvGrpSpPr/>
          <p:nvPr/>
        </p:nvGrpSpPr>
        <p:grpSpPr>
          <a:xfrm>
            <a:off x="4071960" y="1143000"/>
            <a:ext cx="4357800" cy="5392800"/>
            <a:chOff x="4071960" y="1143000"/>
            <a:chExt cx="4357800" cy="5392800"/>
          </a:xfrm>
        </p:grpSpPr>
        <p:sp>
          <p:nvSpPr>
            <p:cNvPr id="668" name="Rectangle 16"/>
            <p:cNvSpPr/>
            <p:nvPr/>
          </p:nvSpPr>
          <p:spPr>
            <a:xfrm>
              <a:off x="4071960" y="1143000"/>
              <a:ext cx="4357800" cy="365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LISTA DE COT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7"/>
            <p:cNvSpPr/>
            <p:nvPr/>
          </p:nvSpPr>
          <p:spPr>
            <a:xfrm>
              <a:off x="4071960" y="150804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8"/>
            <p:cNvSpPr/>
            <p:nvPr/>
          </p:nvSpPr>
          <p:spPr>
            <a:xfrm>
              <a:off x="6022800" y="1508040"/>
              <a:ext cx="24069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9"/>
            <p:cNvSpPr/>
            <p:nvPr/>
          </p:nvSpPr>
          <p:spPr>
            <a:xfrm>
              <a:off x="4071960" y="1873080"/>
              <a:ext cx="195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6022800" y="1873080"/>
              <a:ext cx="376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21"/>
            <p:cNvSpPr/>
            <p:nvPr/>
          </p:nvSpPr>
          <p:spPr>
            <a:xfrm>
              <a:off x="6399360" y="1873080"/>
              <a:ext cx="439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2"/>
            <p:cNvSpPr/>
            <p:nvPr/>
          </p:nvSpPr>
          <p:spPr>
            <a:xfrm>
              <a:off x="6838920" y="1873080"/>
              <a:ext cx="159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Observaci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3"/>
            <p:cNvSpPr/>
            <p:nvPr/>
          </p:nvSpPr>
          <p:spPr>
            <a:xfrm>
              <a:off x="4071960" y="245124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al menos tres características  psicológicas de los protagonist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24"/>
            <p:cNvSpPr/>
            <p:nvPr/>
          </p:nvSpPr>
          <p:spPr>
            <a:xfrm>
              <a:off x="6022800" y="245124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6399360" y="245124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26"/>
            <p:cNvSpPr/>
            <p:nvPr/>
          </p:nvSpPr>
          <p:spPr>
            <a:xfrm>
              <a:off x="6838920" y="245124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27"/>
            <p:cNvSpPr/>
            <p:nvPr/>
          </p:nvSpPr>
          <p:spPr>
            <a:xfrm>
              <a:off x="4071960" y="321480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las características de  los textos (guiones de teatro) dramáticos investigad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28"/>
            <p:cNvSpPr/>
            <p:nvPr/>
          </p:nvSpPr>
          <p:spPr>
            <a:xfrm>
              <a:off x="6022800" y="321480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9"/>
            <p:cNvSpPr/>
            <p:nvPr/>
          </p:nvSpPr>
          <p:spPr>
            <a:xfrm>
              <a:off x="6399360" y="321480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0"/>
            <p:cNvSpPr/>
            <p:nvPr/>
          </p:nvSpPr>
          <p:spPr>
            <a:xfrm>
              <a:off x="6838920" y="321480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4071960" y="3978360"/>
              <a:ext cx="195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Discuten acerca de la trama y los personajes de la ob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2"/>
            <p:cNvSpPr/>
            <p:nvPr/>
          </p:nvSpPr>
          <p:spPr>
            <a:xfrm>
              <a:off x="6022800" y="3978360"/>
              <a:ext cx="376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3"/>
            <p:cNvSpPr/>
            <p:nvPr/>
          </p:nvSpPr>
          <p:spPr>
            <a:xfrm>
              <a:off x="6399360" y="3978360"/>
              <a:ext cx="439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4"/>
            <p:cNvSpPr/>
            <p:nvPr/>
          </p:nvSpPr>
          <p:spPr>
            <a:xfrm>
              <a:off x="6838920" y="3978360"/>
              <a:ext cx="159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5"/>
            <p:cNvSpPr/>
            <p:nvPr/>
          </p:nvSpPr>
          <p:spPr>
            <a:xfrm>
              <a:off x="4071960" y="455292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6"/>
            <p:cNvSpPr/>
            <p:nvPr/>
          </p:nvSpPr>
          <p:spPr>
            <a:xfrm>
              <a:off x="6022800" y="4552920"/>
              <a:ext cx="376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37"/>
            <p:cNvSpPr/>
            <p:nvPr/>
          </p:nvSpPr>
          <p:spPr>
            <a:xfrm>
              <a:off x="6399360" y="4552920"/>
              <a:ext cx="439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38"/>
            <p:cNvSpPr/>
            <p:nvPr/>
          </p:nvSpPr>
          <p:spPr>
            <a:xfrm>
              <a:off x="6838920" y="4552920"/>
              <a:ext cx="159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39"/>
            <p:cNvSpPr/>
            <p:nvPr/>
          </p:nvSpPr>
          <p:spPr>
            <a:xfrm>
              <a:off x="4071960" y="4917960"/>
              <a:ext cx="195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guión contiene: escenas, diálogos y acotac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40"/>
            <p:cNvSpPr/>
            <p:nvPr/>
          </p:nvSpPr>
          <p:spPr>
            <a:xfrm>
              <a:off x="6022800" y="4917960"/>
              <a:ext cx="376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41"/>
            <p:cNvSpPr/>
            <p:nvPr/>
          </p:nvSpPr>
          <p:spPr>
            <a:xfrm>
              <a:off x="6399360" y="4917960"/>
              <a:ext cx="439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42"/>
            <p:cNvSpPr/>
            <p:nvPr/>
          </p:nvSpPr>
          <p:spPr>
            <a:xfrm>
              <a:off x="6838920" y="4917960"/>
              <a:ext cx="159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43"/>
            <p:cNvSpPr/>
            <p:nvPr/>
          </p:nvSpPr>
          <p:spPr>
            <a:xfrm>
              <a:off x="4071960" y="5345280"/>
              <a:ext cx="195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texto es coherente con respecto a la trama y los diálog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44"/>
            <p:cNvSpPr/>
            <p:nvPr/>
          </p:nvSpPr>
          <p:spPr>
            <a:xfrm>
              <a:off x="6022800" y="5345280"/>
              <a:ext cx="376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6399360" y="5345280"/>
              <a:ext cx="439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6"/>
            <p:cNvSpPr/>
            <p:nvPr/>
          </p:nvSpPr>
          <p:spPr>
            <a:xfrm>
              <a:off x="6838920" y="5345280"/>
              <a:ext cx="159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7"/>
            <p:cNvSpPr/>
            <p:nvPr/>
          </p:nvSpPr>
          <p:spPr>
            <a:xfrm>
              <a:off x="4071960" y="5940360"/>
              <a:ext cx="195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Al hacer la lectura, los actores dan las intenciones mencionad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8"/>
            <p:cNvSpPr/>
            <p:nvPr/>
          </p:nvSpPr>
          <p:spPr>
            <a:xfrm>
              <a:off x="6022800" y="5940360"/>
              <a:ext cx="376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49"/>
            <p:cNvSpPr/>
            <p:nvPr/>
          </p:nvSpPr>
          <p:spPr>
            <a:xfrm>
              <a:off x="6399360" y="5940360"/>
              <a:ext cx="439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50"/>
            <p:cNvSpPr/>
            <p:nvPr/>
          </p:nvSpPr>
          <p:spPr>
            <a:xfrm>
              <a:off x="6838920" y="5940360"/>
              <a:ext cx="159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51"/>
            <p:cNvSpPr/>
            <p:nvPr/>
          </p:nvSpPr>
          <p:spPr>
            <a:xfrm>
              <a:off x="6022800" y="15080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52"/>
            <p:cNvSpPr/>
            <p:nvPr/>
          </p:nvSpPr>
          <p:spPr>
            <a:xfrm>
              <a:off x="639936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3"/>
            <p:cNvSpPr/>
            <p:nvPr/>
          </p:nvSpPr>
          <p:spPr>
            <a:xfrm>
              <a:off x="683892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54"/>
            <p:cNvSpPr/>
            <p:nvPr/>
          </p:nvSpPr>
          <p:spPr>
            <a:xfrm>
              <a:off x="4071960" y="1508040"/>
              <a:ext cx="43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5"/>
            <p:cNvSpPr/>
            <p:nvPr/>
          </p:nvSpPr>
          <p:spPr>
            <a:xfrm>
              <a:off x="4071960" y="1873080"/>
              <a:ext cx="19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6"/>
            <p:cNvSpPr/>
            <p:nvPr/>
          </p:nvSpPr>
          <p:spPr>
            <a:xfrm>
              <a:off x="6022800" y="1873080"/>
              <a:ext cx="24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57"/>
            <p:cNvSpPr/>
            <p:nvPr/>
          </p:nvSpPr>
          <p:spPr>
            <a:xfrm>
              <a:off x="4071960" y="245124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58"/>
            <p:cNvSpPr/>
            <p:nvPr/>
          </p:nvSpPr>
          <p:spPr>
            <a:xfrm>
              <a:off x="4071960" y="3214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59"/>
            <p:cNvSpPr/>
            <p:nvPr/>
          </p:nvSpPr>
          <p:spPr>
            <a:xfrm>
              <a:off x="4071960" y="3978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60"/>
            <p:cNvSpPr/>
            <p:nvPr/>
          </p:nvSpPr>
          <p:spPr>
            <a:xfrm>
              <a:off x="4071960" y="455292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61"/>
            <p:cNvSpPr/>
            <p:nvPr/>
          </p:nvSpPr>
          <p:spPr>
            <a:xfrm>
              <a:off x="4071960" y="49179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62"/>
            <p:cNvSpPr/>
            <p:nvPr/>
          </p:nvSpPr>
          <p:spPr>
            <a:xfrm>
              <a:off x="4071960" y="534528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63"/>
            <p:cNvSpPr/>
            <p:nvPr/>
          </p:nvSpPr>
          <p:spPr>
            <a:xfrm>
              <a:off x="4071960" y="5940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64"/>
            <p:cNvSpPr/>
            <p:nvPr/>
          </p:nvSpPr>
          <p:spPr>
            <a:xfrm>
              <a:off x="40719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65"/>
            <p:cNvSpPr/>
            <p:nvPr/>
          </p:nvSpPr>
          <p:spPr>
            <a:xfrm>
              <a:off x="84297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66"/>
            <p:cNvSpPr/>
            <p:nvPr/>
          </p:nvSpPr>
          <p:spPr>
            <a:xfrm>
              <a:off x="4071960" y="11430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67"/>
            <p:cNvSpPr/>
            <p:nvPr/>
          </p:nvSpPr>
          <p:spPr>
            <a:xfrm>
              <a:off x="4071960" y="6535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57 Marcador de número de diapositiva"/>
          <p:cNvSpPr/>
          <p:nvPr/>
        </p:nvSpPr>
        <p:spPr>
          <a:xfrm>
            <a:off x="6553080" y="6564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24B-8724-4843-A8EC-E7FDECA72DFF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383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CALA DE VALOR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iene enunciados sobre una serie de características, cualidades, aspectos, etc., acompañados de una escala graduada sobre lo que interesa medi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grado de presencia de las características se expresa mediante categorías cuantitativas o cualita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ueden utilizar escalas numéricas, gráficas y descriptivas para definir las categorí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439-E035-472D-8944-D23EFE27910F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5973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jemplos de categorí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95280" y="1844640"/>
          <a:ext cx="8137440" cy="37353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nt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l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a 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0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siemp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nunca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c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8642-E523-4415-BAE9-3785AFB28750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nsiste en la descripción de incidentes o hechos que se consideran "críticos" porque manifiestan un comportamiento representativ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videncia, objetiva y longitudinal, de las actitudes y comportamientos mantenidos por el estudiante, de las causas o motivaciones de su comportamiento, así como de si se ha producido algún cambi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porciona la fecha, el lugar y el contexto de ocurrencia, la descripción de un incidente particular y una primera valoración provision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72A-389F-48B2-801D-24BA39948847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42960" y="1428840"/>
            <a:ext cx="7473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REGISTRO ANECD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71680" y="2214720"/>
            <a:ext cx="80643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estro:  Manuel Porras       Alumna: Adriana Bauer     Fecha 21/5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ción:  Adriana no hizo formación para entrar al aula. Entró con retardo de diez minutos, se sentó, abrió su cuaderno y comenzó a escribir. Al acercarme noté que hacía garabatos en su cuaderno, simulaba escrib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retación: La actitud de Adriana pudo haber obedecido a que debía traer de su casa una cámara filmadora que ella ofreció espontáneamente para grabar la clase. No la trajo,  es posible que evadió la situación para no dar explic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319-E3A1-44C1-9C1E-16AB0B8AB40B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0" y="0"/>
          <a:ext cx="9072720" cy="6885000"/>
        </p:xfrm>
        <a:graphic>
          <a:graphicData uri="http://schemas.openxmlformats.org/drawingml/2006/table">
            <a:tbl>
              <a:tblPr/>
              <a:tblGrid>
                <a:gridCol w="1744560"/>
                <a:gridCol w="1339920"/>
                <a:gridCol w="1089000"/>
                <a:gridCol w="1352520"/>
                <a:gridCol w="906480"/>
                <a:gridCol w="1114560"/>
                <a:gridCol w="1525680"/>
              </a:tblGrid>
              <a:tr h="257400"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 para la Evaluación del Desempeñ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grid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Conceptu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Procedi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tudes y Val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lidades del Pensami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ilia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chos y da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ios y concep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as Ment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51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todo de ca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27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 Rúb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a de la Preg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2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y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afol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0E9-0032-4B66-95D1-37D73D21F407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TAFOL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 un sistema de evaluación que comprende la compilación sistemática de trabajos, materiales y actividades que desarrolla el estudiante durante un periodo determin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muestra evidencias y vivencias de aprendizaje que facilitan la apreciación del progreso del alumno y su apropiación de determinados conocimient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E70-1B7E-420D-91EA-7F6EB723034C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bserva el proceso de aprendizaje de cada alumno en partic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ja espacio para considerar las diferencias individuales entre los estudiant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nvolucra a los estudiantes en la reflexión sobre su progre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coge una amplia gama de desempeños con una perspectiva del desarrollo continu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una evaluación colaborati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93C-2917-400B-98E2-830D78DEE584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iempo que demanda su revisión y definición de criterios de correc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r claramente el propósito de las carpet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mplican un gran esfuerzo de organización, gestión y registro de la inform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gnifica un trabajo intenso y continuo de revisión y diálogo permanente con los alumnos, lo que hace de la carpeta una actividad que supera en tiempo a la corrección de cualquier tipo de prueb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0DD-BAF4-4B87-987F-D7D7CA84011C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3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ÚBRICA O MATRIZ DE VERIFIC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herramienta de corroboración que contiene los criterios específicos de calidad esperados de un proceso o producto expresados en una escala descrip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tablece una gradación en niveles de calidad del desempeño en situaciones que pueden ser complejas, imprecisas y/o subje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68A-8509-45E0-9396-68D2CA1742F1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42560" y="1356840"/>
            <a:ext cx="80010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ueve expectativas claras de aprendiza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porciona una retroalimentación eficiente y especifica con respecto de las áreas de fortaleza y debilida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 conveniente para la evaluación de objetivos tanto de proceso como de produc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mueve la autoevaluación para orientar procedimient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Minimiza la subjetividad en la calific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4D5-75DB-4DC0-945A-30ED3636B5EB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2 CuadroTexto"/>
          <p:cNvSpPr/>
          <p:nvPr/>
        </p:nvSpPr>
        <p:spPr>
          <a:xfrm>
            <a:off x="357120" y="5000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 grado. Bloque II.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Leer el periód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00040" y="2000160"/>
          <a:ext cx="7929720" cy="3784680"/>
        </p:xfrm>
        <a:graphic>
          <a:graphicData uri="http://schemas.openxmlformats.org/drawingml/2006/table">
            <a:tbl>
              <a:tblPr/>
              <a:tblGrid>
                <a:gridCol w="2357640"/>
                <a:gridCol w="1990440"/>
                <a:gridCol w="1866960"/>
                <a:gridCol w="171468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 log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 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organización del 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al menos tres secciones  del periódico y las ejempli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secciones  del periód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que se divide en sec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función de las marcas grá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cuál es la noticia importante por la tipografía y ubicación en el periód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otra noticia por la tipografía , que no es la import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otra noticia por la tipograf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cipa la información a partir de letras conocidas o por la extensión del te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el título de la noticia y su contenido a partir de reconocer  letras  y por la extensión de los enunci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o deduce el título de  la noticia partir de reconocer  letras  iniciales  y finales  y, por las fotografí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parcialmente la información a partir de fotograf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54" name="3 CuadroTexto"/>
          <p:cNvSpPr/>
          <p:nvPr/>
        </p:nvSpPr>
        <p:spPr>
          <a:xfrm>
            <a:off x="3651120" y="14288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0B6-306A-41A6-82DF-F6A60003DA4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ISTA DE COTEJ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lista de características, aspectos, cualidades, secuencia de acciones, etc., evidenciables  sobre las que interesa determinar su presencia y ausenci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medir variables en términos dicotómic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hacer registros de conductas observadas en grupos    numeros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DC6-9EB4-4E62-A845-F87F2523D8F9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99680" y="692280"/>
            <a:ext cx="77439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registro demanda poco tiemp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análisis de los datos resulta una operación generalmente rápid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permite evaluar varios momentos en el desarrollo de un proceso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AB7-DFA4-4ACC-A3D5-7119EF7CB5F6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44:45Z</dcterms:created>
  <dc:creator>GGRM</dc:creator>
  <dc:description/>
  <dc:language>en-US</dc:language>
  <cp:lastModifiedBy>Betty</cp:lastModifiedBy>
  <dcterms:modified xsi:type="dcterms:W3CDTF">2010-02-08T14:13:34Z</dcterms:modified>
  <cp:revision>244</cp:revision>
  <dc:subject/>
  <dc:title>Diapositiva 1</dc:title>
</cp:coreProperties>
</file>