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070E-34D9-4DB2-B639-F5110EB536C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C58A-E6DF-4588-8A1F-7DDE94006F02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8B28-BF75-4EA5-98B6-72854908061B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69FA8-53F7-4471-A12D-1B3B6B32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7591F-18D7-4283-9A01-0E217425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7634C-F177-4AF3-AFF1-B0C36FB4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E83AA-1B3F-437D-B132-2042485B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C1400-9D5A-4973-814D-29C9F06B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DE98B-6E2F-4265-8A7E-47793CE4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964AF-CC5B-4902-AF5B-D8DA0D1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6EF41-9B71-41EF-A114-F60F2364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5D54F-3705-4F5F-9C15-A95BDB02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9BDE5-312B-495B-B567-89B23C5C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B8234-F542-4464-9D2B-57A489F4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C02BB-C45F-44AE-AFA6-36454DA9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73130-CD18-4540-9309-A8592400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ECD55-E3AB-4A53-884A-E0FBD1A5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6E6C8-B3C6-47F6-8285-FC95E364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32276-727F-4686-B0B5-5AD52F04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631D0-61C0-4A8C-81E4-67AF35BE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FC3CF-EEED-46BB-9217-8DA45174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32133-41F1-4894-B223-6EC51165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6E54A-3F30-4C4E-8D83-493AC44A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44875-1B16-46EE-A550-926C67C7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4D77B-3381-4803-B890-CECC79E3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6DB2C-2729-4E0B-86B1-FC5C82C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42A6F-9357-4747-982C-719A2483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CBDE5-4E38-42D2-82C3-BBE3272E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86D65-C7D6-43E6-B231-B0226D95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A83C3-F775-4578-B472-20F0169C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6749C-6884-4ADE-8406-669FB2AB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F640A-D2F6-45D3-8370-83E3A16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67778-4E73-496C-A5DE-C8A238BA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BB5-E7A9-4DAB-AC20-493761C6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78671-45DB-46C1-846D-90F0EEA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4ACC1-D75B-4D79-8359-D806FB27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88605-4ED4-4A90-9DC3-151D7306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A22F6-0D21-44DE-BA85-7D45C1B4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C3C98-565E-4646-8FB8-7686E3B2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07006-BE18-44BE-B002-F884749A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736CE-3AB1-481F-BA9F-5226B01B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3A9B5-6583-4709-9007-4A65C623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1F01D-D3E7-42D1-A3AA-F352071C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EF5C3-0EE2-43CB-9080-FE50FB51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87B-A276-4995-97D5-51A80A76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EDC51-4071-42DD-AE3E-BEB81D2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78B68-E5C0-4174-BFE0-2475428F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4048B-CDEE-41AE-A159-F1C456D1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14AB8-66FC-4F1C-BFF6-01131FFF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F09C1-2C2C-498C-9DB1-BFDBE4D3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EC2DC-629D-4287-BE4E-C384850E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34713-6781-4B2A-8151-762828E4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7E573-3EA7-4DAF-BC9C-535B4B90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43183-8DC5-4551-B497-7FEE176E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8AF24-EB2B-4667-A7C2-9E710DDF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4AF-6F04-404C-87C3-10BB582F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2D704-73E6-4F36-8980-D04891E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7594B-64AA-458C-8794-E698BA4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47298-4DEB-400A-9DF8-6060234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BD21A-CE2F-40E8-850E-2440E25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46044-8D33-4C4E-BCDA-5F15806D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246AD-883D-4E28-ADAD-D8087887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99FF2-EACE-47ED-B374-65AD025A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AEE46-4F60-404D-843C-A325249F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7BEBA-28BB-418E-88E7-72FEA098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59354-477E-42DB-B4E5-DF2DF302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305-B6BC-47FF-86B8-50AF5D75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B600E-C6AC-4262-AF21-F4C48EA5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37FA1-E05C-4976-BA62-D2838A7F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B4958-AD69-4C4F-8AAD-88283511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81E33-4285-4104-96DC-4AB2B922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45BBF-0C34-40A7-BA97-66A7E6B4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1A64F-E9CF-47DC-B9E5-63FA833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655A3-A5D3-4A05-A324-D7C3B01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6662E-FC26-458E-8A51-780D02E4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32D19-E6AE-45C8-B719-DA220DBA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CD5-EB60-45CF-9C2B-9A28404D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1B5-BC1F-4A86-9177-CC54BBF7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9DA-23C2-4B0B-8062-997FA93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12E-152C-46B4-906B-C094BA11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93B-EBCD-44FA-BCCE-65CA0A0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ABA-EB53-4E81-A9B5-5C99348C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28B-2C8E-4147-BDC4-E5AB1186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5EB-7537-4363-9BC1-99EB8ADC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E00B-8875-4079-97B5-F7964BBB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97A4-CA8C-4F0C-AD5C-60A08356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0AC3-E9F9-432B-9258-9F32BD48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067D-760F-4808-A121-418C9883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5822-04C6-4495-AE9C-DC92A148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27C3-911A-4463-94AE-39C98B03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E571-A540-44EB-9EC6-929CAB5F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4826-2502-4B62-A254-7237C6F9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C4A9-BB9D-4F6F-85E5-5BD8C843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25A3-7F1A-4D78-A599-E99034EE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29CB-0408-4CF7-AFF4-6D04CC21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7969-83D4-4A2C-869B-DDB0678B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500C-483F-435F-80FE-C91AFCDB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F18F-C10B-46B3-83E4-1A91F3F4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7403-AD90-4A29-9F4A-2239E6C3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D519-2E63-431A-8AFC-B182B3A2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6B07-5A91-45B7-AE2E-58C307ED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E497-88AA-46C7-9A81-9282EFBA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EC15-39B8-4A0C-B1E8-677ED520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6370-047A-40DD-AEFE-43360FF9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0A6B-925A-4647-959C-71CC5A72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51C5-BC9D-4AB8-8C80-7A5E267B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8039-E333-4A38-B846-6E3E7703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4929-21C3-4042-9774-1E546AED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7421-63FF-4465-BA90-62862C91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BF3F-3142-4B30-9D93-E94B27AE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E0B5-F9AF-4020-9BE3-84D6FF18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CC55-D6CA-4D72-A4BF-6F9A8F41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7441-7E06-4F6A-92A6-E45B237F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1B9A-D811-4292-BC6A-5663161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67E0-6AC6-4D21-BC68-22371A00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BE96D-3D73-447D-BE47-83A3DDF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16C2-3AFA-4838-A84D-D078598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65E1B-65F2-4DB3-91F9-9871C073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A4682-C326-4F4C-BD78-B8935473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7869-3782-4A91-A461-EDB9E41E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CFFD8-2D92-4E4B-B2B1-763E1D33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21009-99C6-4FDE-97BD-5DE60A4F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516E-1A83-418F-9D6F-C28454B2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689F-DD60-4ACF-9BFF-8D03BD91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A0511-FA9A-4397-A023-35611419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C253-0381-4142-9538-654B73D5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86DBD-8833-49CB-8657-FFA4FBB5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D6B6D-01B4-474E-8047-33A32F2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008FB-ECA4-43A1-8AA8-BB7258FE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0E59-701D-4757-8C2D-F9B246DC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8B2E4-8F63-4158-BFFA-51E8126A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55F52-AC56-4AD7-B398-BCB6CC99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90347-A3AB-48CB-ACAB-A0A8797E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6A0E2-5AED-4738-92F4-C104456B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ECB41-C86D-483B-8C8B-2038CEE5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E45B7-E0F1-412D-9408-09F960AE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D518-9861-48A2-B2D2-567D8CC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05B2-79CD-4246-965A-00C4A305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5A460-C3CA-4534-AFB3-55909972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2B12A-4051-4EE8-A035-1FFEC83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21C9D-F274-4B38-B301-C83CC6DB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78C7-1FF7-413D-8469-C2967E47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01FC4-EE95-4BE0-87CD-11A075FE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4EF63-8066-4F98-8356-1FC176A6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7752C-99F6-45E6-B85B-4BE60A5B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43B59-BAD8-4D61-9205-5ACB9CAD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D848C-85AE-45AF-A034-B90373A4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C1178-25D8-4EEB-A5DD-D3CA2C93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F13C1-D85B-4214-B86B-0159601C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EDA5F-20CB-4686-9DE8-BEBE1696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91CA0-5A06-4E34-B8AB-28A622FD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0C625-43AB-4C42-AA2E-04A2E3C5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A7239-9D03-47DA-89EF-81270A9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84961-3649-4A89-84C9-8F0F225F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C95D0-504C-4D01-BCEC-9CAEBD7D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D4F6F-69B1-4BCF-8B6D-AA1456A5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67E26-D2DB-43C2-A4AC-82748153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6CAE6-7CD9-4C48-89D2-6CF0A147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43A98-EAF8-4EE7-B3FF-0B8D049F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D49-AC04-4D1E-A1FD-0F82DDE5E7C7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33FB-526C-4695-98CF-1C1D6CF51E32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C154-81C0-4EF3-A66E-86661CBEDEA5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6498-2FDF-4672-8867-403B619140DA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D113-E530-4DDC-A7E9-AD4513F46BB4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3B98-ACF1-418B-83AD-8E7BE2052C94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DD4B-FB20-4CBC-9776-D62FFCD110E8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19E7-065F-4520-B5EF-1CBAF4454930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0EED-82EE-47E9-9DD4-DFE57DA91363}" type="datetime">
              <a:rPr b="0" lang="es-MX" sz="24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C350-0C82-4BF4-9873-B42671B2ECCB}" type="slidenum">
              <a:rPr b="0" lang="es-MX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211B-CDC5-4EFA-8F26-19A22151FB33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A6F6-944E-40EE-947F-84EAA08FF272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59DF-2D11-4AC6-ACEF-91C20225BB32}" type="datetime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39BC-BB21-4F69-9963-C51F8F2BBEE0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7F22-84D7-49EA-8C2B-06DE685F878C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A5E1-DB17-4481-97CA-C2E542B7146E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F06C-4161-422F-A4F6-F0C33F46EB19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2108-BB45-4A48-A4E6-B2238AEC1344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1D19-93BD-41C7-BFFF-D82B9C98F549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88E7-E9D3-4EBF-8100-7BD9B87AA76C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6397-98F2-4099-9341-31C2693636EF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70EF-3AB2-49B8-942B-EFA83AD4AB44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76C3-C51F-403B-8A54-4809B1F6EDA2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6DD6-E855-4C43-82FB-15C41A5C74A4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103320" y="1000080"/>
            <a:ext cx="8948520" cy="357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7500960" y="6215040"/>
            <a:ext cx="482400" cy="609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4"/>
          <a:stretch/>
        </p:blipFill>
        <p:spPr>
          <a:xfrm>
            <a:off x="7858080" y="6072120"/>
            <a:ext cx="500040" cy="638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5"/>
          <a:stretch/>
        </p:blipFill>
        <p:spPr>
          <a:xfrm>
            <a:off x="8215200" y="5857920"/>
            <a:ext cx="471600" cy="595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"/>
          <p:cNvPicPr/>
          <p:nvPr/>
        </p:nvPicPr>
        <p:blipFill>
          <a:blip r:embed="rId6"/>
          <a:stretch/>
        </p:blipFill>
        <p:spPr>
          <a:xfrm>
            <a:off x="8559720" y="5643720"/>
            <a:ext cx="584280" cy="7394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E5B7-9002-454C-B938-7602AC213584}" type="datetime">
              <a:rPr b="0" lang="es-MX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AF73-BB2F-4509-A685-C1484A2C62EB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INSTRUMENTOS PARA LA EVALUACIÓ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F909-6B2A-48A5-8A11-D9254CC9FB9E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611280" y="1411200"/>
            <a:ext cx="74739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LISTA DE COTE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258920" y="2060640"/>
          <a:ext cx="6095880" cy="2244600"/>
        </p:xfrm>
        <a:graphic>
          <a:graphicData uri="http://schemas.openxmlformats.org/drawingml/2006/table">
            <a:tbl>
              <a:tblPr/>
              <a:tblGrid>
                <a:gridCol w="4200480"/>
                <a:gridCol w="934920"/>
                <a:gridCol w="96048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PEC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jó el polígono indic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ó cada uno de los vért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izó el centro de ro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089D-C69E-418A-9858-6D4E8F6F7F78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1 Rectángulo"/>
          <p:cNvSpPr/>
          <p:nvPr/>
        </p:nvSpPr>
        <p:spPr>
          <a:xfrm>
            <a:off x="285840" y="214200"/>
            <a:ext cx="83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95d63"/>
                </a:solidFill>
                <a:latin typeface="Arial"/>
              </a:rPr>
              <a:t>Quinto grado. Bloque IV.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Hacer una obra de teatro con personajes prototípicos de cu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2 Flecha curvada hacia abajo"/>
          <p:cNvSpPr/>
          <p:nvPr/>
        </p:nvSpPr>
        <p:spPr>
          <a:xfrm rot="20970600">
            <a:off x="3132000" y="620280"/>
            <a:ext cx="3000600" cy="714600"/>
          </a:xfrm>
          <a:custGeom>
            <a:avLst/>
            <a:gdLst>
              <a:gd name="textAreaLeft" fmla="*/ 682920 w 3000600"/>
              <a:gd name="textAreaRight" fmla="*/ 2228040 w 300060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6" hR="21600" stAng="10800000" swAng="5400000"/>
                <a:lnTo>
                  <a:pt x="11121" y="0"/>
                </a:lnTo>
                <a:arcTo wR="9836" hR="21600" stAng="-5400000" swAng="3626784"/>
                <a:lnTo>
                  <a:pt x="21288" y="16200"/>
                </a:lnTo>
                <a:lnTo>
                  <a:pt x="20315" y="21600"/>
                </a:lnTo>
                <a:lnTo>
                  <a:pt x="18717" y="16200"/>
                </a:lnTo>
                <a:lnTo>
                  <a:pt x="19360" y="16200"/>
                </a:lnTo>
                <a:arcTo wR="9836" hR="21600" stAng="-1773216" swAng="-3524338"/>
                <a:lnTo>
                  <a:pt x="10479" y="46"/>
                </a:lnTo>
                <a:arcTo wR="9836" hR="21600" stAng="-5502446" swAng="-5297554"/>
                <a:close/>
              </a:path>
              <a:path fill="darkenLess" w="21600" h="21600">
                <a:moveTo>
                  <a:pt x="0" y="21600"/>
                </a:moveTo>
                <a:arcTo wR="9836" hR="21600" stAng="10800000" swAng="5400000"/>
                <a:lnTo>
                  <a:pt x="9836" y="0"/>
                </a:lnTo>
                <a:arcTo wR="9836" hR="21600" stAng="-5400000" swAng="102446"/>
                <a:lnTo>
                  <a:pt x="10479" y="46"/>
                </a:lnTo>
                <a:arcTo wR="9836" hR="21600" stAng="-5502446" swAng="-5297554"/>
                <a:close/>
              </a:path>
            </a:pathLst>
          </a:custGeom>
          <a:solidFill>
            <a:srgbClr val="4f81b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24000" y="1108080"/>
          <a:ext cx="3571560" cy="5694480"/>
        </p:xfrm>
        <a:graphic>
          <a:graphicData uri="http://schemas.openxmlformats.org/drawingml/2006/table">
            <a:tbl>
              <a:tblPr/>
              <a:tblGrid>
                <a:gridCol w="1744560"/>
                <a:gridCol w="182700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l </a:t>
                      </a: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tan acerca de las características de los personajes princip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n a los protagonistas y antagonistas de los  cuentos  por su prototip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inguen entre características físicas y psicológ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an el tema acerca del cual se desarrollará la trama de la obra que escribirá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an las escenas, los diálogos, los personaj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riben las escenas en el tipo de texto correspondiente (guió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parci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a  comparat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fican las características psicológicas y físic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fin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ón de teat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ue la estructura del tipo de text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 acotacio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 signos de puntuación que indican expresiones específicas de los personajes(enojo, admiración, sorpresa, etc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escenas y diálogos son coherent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reglas  gramaticales y ortográficas están presentes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grpSp>
        <p:nvGrpSpPr>
          <p:cNvPr id="667" name="Group 70"/>
          <p:cNvGrpSpPr/>
          <p:nvPr/>
        </p:nvGrpSpPr>
        <p:grpSpPr>
          <a:xfrm>
            <a:off x="4071960" y="1143000"/>
            <a:ext cx="4357800" cy="5392800"/>
            <a:chOff x="4071960" y="1143000"/>
            <a:chExt cx="4357800" cy="5392800"/>
          </a:xfrm>
        </p:grpSpPr>
        <p:sp>
          <p:nvSpPr>
            <p:cNvPr id="668" name="Rectangle 16"/>
            <p:cNvSpPr/>
            <p:nvPr/>
          </p:nvSpPr>
          <p:spPr>
            <a:xfrm>
              <a:off x="4071960" y="1143000"/>
              <a:ext cx="4357800" cy="3650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LISTA DE COTEJ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7"/>
            <p:cNvSpPr/>
            <p:nvPr/>
          </p:nvSpPr>
          <p:spPr>
            <a:xfrm>
              <a:off x="4071960" y="150804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8"/>
            <p:cNvSpPr/>
            <p:nvPr/>
          </p:nvSpPr>
          <p:spPr>
            <a:xfrm>
              <a:off x="6022800" y="1508040"/>
              <a:ext cx="24069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9"/>
            <p:cNvSpPr/>
            <p:nvPr/>
          </p:nvSpPr>
          <p:spPr>
            <a:xfrm>
              <a:off x="4071960" y="1873080"/>
              <a:ext cx="195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20"/>
            <p:cNvSpPr/>
            <p:nvPr/>
          </p:nvSpPr>
          <p:spPr>
            <a:xfrm>
              <a:off x="6022800" y="1873080"/>
              <a:ext cx="376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21"/>
            <p:cNvSpPr/>
            <p:nvPr/>
          </p:nvSpPr>
          <p:spPr>
            <a:xfrm>
              <a:off x="6399360" y="1873080"/>
              <a:ext cx="43956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22"/>
            <p:cNvSpPr/>
            <p:nvPr/>
          </p:nvSpPr>
          <p:spPr>
            <a:xfrm>
              <a:off x="6838920" y="1873080"/>
              <a:ext cx="1590840" cy="578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Observacio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3"/>
            <p:cNvSpPr/>
            <p:nvPr/>
          </p:nvSpPr>
          <p:spPr>
            <a:xfrm>
              <a:off x="4071960" y="245124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al menos tres características  psicológicas de los protagonist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24"/>
            <p:cNvSpPr/>
            <p:nvPr/>
          </p:nvSpPr>
          <p:spPr>
            <a:xfrm>
              <a:off x="6022800" y="245124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25"/>
            <p:cNvSpPr/>
            <p:nvPr/>
          </p:nvSpPr>
          <p:spPr>
            <a:xfrm>
              <a:off x="6399360" y="245124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26"/>
            <p:cNvSpPr/>
            <p:nvPr/>
          </p:nvSpPr>
          <p:spPr>
            <a:xfrm>
              <a:off x="6838920" y="245124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27"/>
            <p:cNvSpPr/>
            <p:nvPr/>
          </p:nvSpPr>
          <p:spPr>
            <a:xfrm>
              <a:off x="4071960" y="3214800"/>
              <a:ext cx="195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Mencionan las características de  los textos (guiones de teatro) dramáticos investigad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28"/>
            <p:cNvSpPr/>
            <p:nvPr/>
          </p:nvSpPr>
          <p:spPr>
            <a:xfrm>
              <a:off x="6022800" y="3214800"/>
              <a:ext cx="376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29"/>
            <p:cNvSpPr/>
            <p:nvPr/>
          </p:nvSpPr>
          <p:spPr>
            <a:xfrm>
              <a:off x="6399360" y="3214800"/>
              <a:ext cx="43956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0"/>
            <p:cNvSpPr/>
            <p:nvPr/>
          </p:nvSpPr>
          <p:spPr>
            <a:xfrm>
              <a:off x="6838920" y="3214800"/>
              <a:ext cx="1590840" cy="763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1"/>
            <p:cNvSpPr/>
            <p:nvPr/>
          </p:nvSpPr>
          <p:spPr>
            <a:xfrm>
              <a:off x="4071960" y="3978360"/>
              <a:ext cx="195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Discuten acerca de la trama y los personajes de la obr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2"/>
            <p:cNvSpPr/>
            <p:nvPr/>
          </p:nvSpPr>
          <p:spPr>
            <a:xfrm>
              <a:off x="6022800" y="3978360"/>
              <a:ext cx="376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3"/>
            <p:cNvSpPr/>
            <p:nvPr/>
          </p:nvSpPr>
          <p:spPr>
            <a:xfrm>
              <a:off x="6399360" y="3978360"/>
              <a:ext cx="43956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4"/>
            <p:cNvSpPr/>
            <p:nvPr/>
          </p:nvSpPr>
          <p:spPr>
            <a:xfrm>
              <a:off x="6838920" y="3978360"/>
              <a:ext cx="1590840" cy="5745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35"/>
            <p:cNvSpPr/>
            <p:nvPr/>
          </p:nvSpPr>
          <p:spPr>
            <a:xfrm>
              <a:off x="4071960" y="4552920"/>
              <a:ext cx="195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36"/>
            <p:cNvSpPr/>
            <p:nvPr/>
          </p:nvSpPr>
          <p:spPr>
            <a:xfrm>
              <a:off x="6022800" y="4552920"/>
              <a:ext cx="376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37"/>
            <p:cNvSpPr/>
            <p:nvPr/>
          </p:nvSpPr>
          <p:spPr>
            <a:xfrm>
              <a:off x="6399360" y="4552920"/>
              <a:ext cx="43956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38"/>
            <p:cNvSpPr/>
            <p:nvPr/>
          </p:nvSpPr>
          <p:spPr>
            <a:xfrm>
              <a:off x="6838920" y="4552920"/>
              <a:ext cx="1590840" cy="3650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39"/>
            <p:cNvSpPr/>
            <p:nvPr/>
          </p:nvSpPr>
          <p:spPr>
            <a:xfrm>
              <a:off x="4071960" y="4917960"/>
              <a:ext cx="195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guión contiene: escenas, diálogos y acotac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40"/>
            <p:cNvSpPr/>
            <p:nvPr/>
          </p:nvSpPr>
          <p:spPr>
            <a:xfrm>
              <a:off x="6022800" y="4917960"/>
              <a:ext cx="376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41"/>
            <p:cNvSpPr/>
            <p:nvPr/>
          </p:nvSpPr>
          <p:spPr>
            <a:xfrm>
              <a:off x="6399360" y="4917960"/>
              <a:ext cx="43956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42"/>
            <p:cNvSpPr/>
            <p:nvPr/>
          </p:nvSpPr>
          <p:spPr>
            <a:xfrm>
              <a:off x="6838920" y="4917960"/>
              <a:ext cx="1590840" cy="4273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43"/>
            <p:cNvSpPr/>
            <p:nvPr/>
          </p:nvSpPr>
          <p:spPr>
            <a:xfrm>
              <a:off x="4071960" y="5345280"/>
              <a:ext cx="195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El texto es coherente con respecto a la trama y los diálog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44"/>
            <p:cNvSpPr/>
            <p:nvPr/>
          </p:nvSpPr>
          <p:spPr>
            <a:xfrm>
              <a:off x="6022800" y="5345280"/>
              <a:ext cx="376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6399360" y="5345280"/>
              <a:ext cx="43956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46"/>
            <p:cNvSpPr/>
            <p:nvPr/>
          </p:nvSpPr>
          <p:spPr>
            <a:xfrm>
              <a:off x="6838920" y="5345280"/>
              <a:ext cx="1590840" cy="5950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47"/>
            <p:cNvSpPr/>
            <p:nvPr/>
          </p:nvSpPr>
          <p:spPr>
            <a:xfrm>
              <a:off x="4071960" y="5940360"/>
              <a:ext cx="195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100" spc="-1" strike="noStrike">
                  <a:solidFill>
                    <a:srgbClr val="000000"/>
                  </a:solidFill>
                  <a:latin typeface="Arial"/>
                </a:rPr>
                <a:t>Al hacer la lectura, los actores dan las intenciones mencionadas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8"/>
            <p:cNvSpPr/>
            <p:nvPr/>
          </p:nvSpPr>
          <p:spPr>
            <a:xfrm>
              <a:off x="6022800" y="5940360"/>
              <a:ext cx="376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49"/>
            <p:cNvSpPr/>
            <p:nvPr/>
          </p:nvSpPr>
          <p:spPr>
            <a:xfrm>
              <a:off x="6399360" y="5940360"/>
              <a:ext cx="43956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50"/>
            <p:cNvSpPr/>
            <p:nvPr/>
          </p:nvSpPr>
          <p:spPr>
            <a:xfrm>
              <a:off x="6838920" y="5940360"/>
              <a:ext cx="1590840" cy="5954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51"/>
            <p:cNvSpPr/>
            <p:nvPr/>
          </p:nvSpPr>
          <p:spPr>
            <a:xfrm>
              <a:off x="6022800" y="1508040"/>
              <a:ext cx="0" cy="502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52"/>
            <p:cNvSpPr/>
            <p:nvPr/>
          </p:nvSpPr>
          <p:spPr>
            <a:xfrm>
              <a:off x="639936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53"/>
            <p:cNvSpPr/>
            <p:nvPr/>
          </p:nvSpPr>
          <p:spPr>
            <a:xfrm>
              <a:off x="6838920" y="1873080"/>
              <a:ext cx="0" cy="46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54"/>
            <p:cNvSpPr/>
            <p:nvPr/>
          </p:nvSpPr>
          <p:spPr>
            <a:xfrm>
              <a:off x="4071960" y="1508040"/>
              <a:ext cx="43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55"/>
            <p:cNvSpPr/>
            <p:nvPr/>
          </p:nvSpPr>
          <p:spPr>
            <a:xfrm>
              <a:off x="4071960" y="1873080"/>
              <a:ext cx="19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56"/>
            <p:cNvSpPr/>
            <p:nvPr/>
          </p:nvSpPr>
          <p:spPr>
            <a:xfrm>
              <a:off x="6022800" y="1873080"/>
              <a:ext cx="240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57"/>
            <p:cNvSpPr/>
            <p:nvPr/>
          </p:nvSpPr>
          <p:spPr>
            <a:xfrm>
              <a:off x="4071960" y="245124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58"/>
            <p:cNvSpPr/>
            <p:nvPr/>
          </p:nvSpPr>
          <p:spPr>
            <a:xfrm>
              <a:off x="4071960" y="3214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Line 59"/>
            <p:cNvSpPr/>
            <p:nvPr/>
          </p:nvSpPr>
          <p:spPr>
            <a:xfrm>
              <a:off x="4071960" y="3978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Line 60"/>
            <p:cNvSpPr/>
            <p:nvPr/>
          </p:nvSpPr>
          <p:spPr>
            <a:xfrm>
              <a:off x="4071960" y="455292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61"/>
            <p:cNvSpPr/>
            <p:nvPr/>
          </p:nvSpPr>
          <p:spPr>
            <a:xfrm>
              <a:off x="4071960" y="49179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62"/>
            <p:cNvSpPr/>
            <p:nvPr/>
          </p:nvSpPr>
          <p:spPr>
            <a:xfrm>
              <a:off x="4071960" y="534528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Line 63"/>
            <p:cNvSpPr/>
            <p:nvPr/>
          </p:nvSpPr>
          <p:spPr>
            <a:xfrm>
              <a:off x="4071960" y="594036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64"/>
            <p:cNvSpPr/>
            <p:nvPr/>
          </p:nvSpPr>
          <p:spPr>
            <a:xfrm>
              <a:off x="40719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65"/>
            <p:cNvSpPr/>
            <p:nvPr/>
          </p:nvSpPr>
          <p:spPr>
            <a:xfrm>
              <a:off x="8429760" y="1143000"/>
              <a:ext cx="0" cy="539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66"/>
            <p:cNvSpPr/>
            <p:nvPr/>
          </p:nvSpPr>
          <p:spPr>
            <a:xfrm>
              <a:off x="4071960" y="11430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67"/>
            <p:cNvSpPr/>
            <p:nvPr/>
          </p:nvSpPr>
          <p:spPr>
            <a:xfrm>
              <a:off x="4071960" y="6535800"/>
              <a:ext cx="43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57 Marcador de número de diapositiva"/>
          <p:cNvSpPr/>
          <p:nvPr/>
        </p:nvSpPr>
        <p:spPr>
          <a:xfrm>
            <a:off x="6553080" y="6564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EBA-1FF0-452C-83CB-F9FA90F2ED22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6383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CALA DE VALOR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tiene enunciados sobre una serie de características, cualidades, aspectos, etc., acompañados de una escala graduada sobre lo que interesa medi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grado de presencia de las características se expresa mediante categorías cuantitativas o cualita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e pueden utilizar escalas numéricas, gráficas y descriptivas para definir las categorí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752F-B3AE-4D08-A7BB-29E04330D2D0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65973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jemplos de categorí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395280" y="1844640"/>
          <a:ext cx="8137440" cy="373536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nt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alitativ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ra for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0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h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c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mpr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siemp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ec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 nunca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iciente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ci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72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4391-8F73-4158-89EC-70E797329220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GISTRO ANECDÓ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onsiste en la descripción de incidentes o hechos que se consideran "críticos" porque manifiestan un comportamiento representativo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videncia, objetiva y longitudinal, de las actitudes y comportamientos mantenidos por el estudiante, de las causas o motivaciones de su comportamiento, así como de si se ha producido algún cambi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oporciona la fecha, el lugar y el contexto de ocurrencia, la descripción de un incidente particular y una primera valoración provision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E33B-63F3-4866-8195-FB505456D555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42960" y="1428840"/>
            <a:ext cx="74739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ELO DE REGISTRO ANECD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571680" y="2214720"/>
            <a:ext cx="806436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estro:  Manuel Porras       Alumna: Adriana Bauer     Fecha 21/5/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pción:  Adriana no hizo formación para entrar al aula. Entró con retardo de diez minutos, se sentó, abrió su cuaderno y comenzó a escribir. Al acercarme noté que hacía garabatos en su cuaderno, simulaba escrib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pretación: La actitud de Adriana pudo haber obedecido a que debía traer de su casa una cámara filmadora que ella ofreció espontáneamente para grabar la clase. No la trajo,  es posible que evadió la situación para no dar explic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A5C8-6025-4E60-B61E-2F43ABEAF63C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0" y="0"/>
          <a:ext cx="9072720" cy="6885000"/>
        </p:xfrm>
        <a:graphic>
          <a:graphicData uri="http://schemas.openxmlformats.org/drawingml/2006/table">
            <a:tbl>
              <a:tblPr/>
              <a:tblGrid>
                <a:gridCol w="1744560"/>
                <a:gridCol w="1339920"/>
                <a:gridCol w="1089000"/>
                <a:gridCol w="1352520"/>
                <a:gridCol w="906480"/>
                <a:gridCol w="1114560"/>
                <a:gridCol w="1525680"/>
              </a:tblGrid>
              <a:tr h="257400"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 para la Evaluación del Desempeñ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grid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Conceptu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ido Procedime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tudes y Val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bilidades del Pensamien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cn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xiliar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</a:tr>
              <a:tr h="98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chos y da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ios y concep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as Ment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0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ción de Problem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51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todo de ca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272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36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a de Cotejo Rúb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cnica de la Pregu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24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say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2400"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afol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vista Lista de Cotejo Rúbricas Rang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50BD-1311-4653-8A9C-0FB6EEB75657}" type="slidenum">
              <a:rPr b="0" lang="es-MX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TAFOLI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 un sistema de evaluación que comprende la compilación sistemática de trabajos, materiales y actividades que desarrolla el estudiante durante un periodo determinad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muestra evidencias y vivencias de aprendizaje que facilitan la apreciación del progreso del alumno y su apropiación de determinados conocimient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7D83-E712-4804-8BC1-EF86C9F37BAD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2840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observa el proceso de aprendizaje de cada alumno en particula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ja espacio para considerar las diferencias individuales entre los estudiant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nvolucra a los estudiantes en la reflexión sobre su progre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Recoge una amplia gama de desempeños con una perspectiva del desarrollo continu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Permite una evaluación colaborativ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65F8-7FED-4DF1-8307-CF4D1A849292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Tiempo que demanda su revisión y definición de criterios de correc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finir claramente el propósito de las carpet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mplican un gran esfuerzo de organización, gestión y registro de la inform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ignifica un trabajo intenso y continuo de revisión y diálogo permanente con los alumnos, lo que hace de la carpeta una actividad que supera en tiempo a la corrección de cualquier tipo de prueb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0A3F-88A3-4139-9B94-A43D6CC6C611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3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ÚBRICA O MATRIZ DE VERIFIC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571400"/>
            <a:ext cx="7686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herramienta de corroboración que contiene los criterios específicos de calidad esperados de un proceso o producto expresados en una escala descripti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tablece una gradación en niveles de calidad del desempeño en situaciones que pueden ser complejas, imprecisas y/o subjetiv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E18C-A59A-4AF5-B602-048D9327B673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42560" y="1356840"/>
            <a:ext cx="800100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romueve expectativas claras de aprendizaj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porciona una retroalimentación eficiente y especifica con respecto de las áreas de fortaleza y debilida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Es conveniente para la evaluación de objetivos tanto de proceso como de product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Promueve la autoevaluación para orientar procedimiento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Minimiza la subjetividad en la calificació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A34E-2141-4F75-9AA6-0B4AEF3B7218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2 CuadroTexto"/>
          <p:cNvSpPr/>
          <p:nvPr/>
        </p:nvSpPr>
        <p:spPr>
          <a:xfrm>
            <a:off x="357120" y="5000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mer grado. Bloque II.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Leer el periód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00040" y="2000160"/>
          <a:ext cx="7929720" cy="3784680"/>
        </p:xfrm>
        <a:graphic>
          <a:graphicData uri="http://schemas.openxmlformats.org/drawingml/2006/table">
            <a:tbl>
              <a:tblPr/>
              <a:tblGrid>
                <a:gridCol w="2357640"/>
                <a:gridCol w="1990440"/>
                <a:gridCol w="1866960"/>
                <a:gridCol w="171468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egor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 de log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Bueno 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 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organización del 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al menos tres secciones  del periódico y las ejemplif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secciones  del periód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ciona que se divide en sec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e la función de las marcas gráf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cuál es la noticia importante por la tipografía y ubicación en el periód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reconoce otra noticia por la tipografía , que no es la import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leer el periódico otra noticia por la tipografí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cipa la información a partir de letras conocidas o por la extensión del te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el título de la noticia y su contenido a partir de reconocer  letras  y por la extensión de los enunci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o deduce el título de  la noticia partir de reconocer  letras  iniciales  y finales  y, por las fotografí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e parcialmente la información a partir de fotograf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654" name="3 CuadroTexto"/>
          <p:cNvSpPr/>
          <p:nvPr/>
        </p:nvSpPr>
        <p:spPr>
          <a:xfrm>
            <a:off x="3651120" y="14288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ÚB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713-FA48-4D86-99F5-21DAA2471758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ISTA DE COTEJ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s una lista de características, aspectos, cualidades, secuencia de acciones, etc., evidenciables  sobre las que interesa determinar su presencia y ausenci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medir variables en términos dicotómic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rmite hacer registros de conductas observadas en grupos    numeros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DFE9-CA97-450D-B1C1-F9232B02FE57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499680" y="692280"/>
            <a:ext cx="774396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registro demanda poco tiemp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análisis de los datos resulta una operación generalmente rápida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permite evaluar varios momentos en el desarrollo de un proceso.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A086-BE06-463E-BE0E-E51E4DF7F277}" type="slidenum">
              <a:rPr b="0" lang="es-MX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2:44:45Z</dcterms:created>
  <dc:creator>GGRM</dc:creator>
  <dc:description/>
  <dc:language>en-US</dc:language>
  <cp:lastModifiedBy>Betty</cp:lastModifiedBy>
  <dcterms:modified xsi:type="dcterms:W3CDTF">2010-02-08T14:13:34Z</dcterms:modified>
  <cp:revision>244</cp:revision>
  <dc:subject/>
  <dc:title>Diapositiva 1</dc:title>
</cp:coreProperties>
</file>