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72BB-BA2A-4049-A1FF-E6871223FD4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BA3C-6E80-408D-96A4-37DD892B0CC1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2796-87AB-4A07-A8B6-ECDC1A0FC91D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83CD7-A5A4-4235-BB95-478E8903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E4057-B87A-4BED-92A0-B52FC7CA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F1A79-8215-4971-A8FA-5E1131E1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34ED-505D-411B-AD39-4EA7D830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58B2E-380D-41D6-B593-5CF04919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956E9-0C63-4CBA-9B3D-1D460D3C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05649-7DCA-4225-A25D-D79A8416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EB2A3-E139-4604-8165-6FD65C67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47657-982F-496B-BC58-D3CF9F0A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A743B-0E18-4023-9FA1-F43F3D35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7B67F-F60A-4901-8D73-57E78650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9CE02-9FEE-47C2-AC15-E19B2A18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15528-4B76-4C8E-A866-54D53339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09A63-B651-4A05-83E8-9958EE7E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DAEA1-4D1D-4DCC-98C9-243AD78D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33985-9996-4E88-BB8D-B2F2B8A6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C6C9E-F541-475A-BE63-6D8BE08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C3A1F-0FA4-42B9-BD6F-A446DAB1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803CB-6DB4-4673-9D2D-668A493C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5F39B-8232-4CD3-B630-C5364A80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EB86F-D076-4E63-86DF-35613F31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50028-967B-4711-B030-2829C1EA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E23CE-4106-4954-B9B7-159798E8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63011-2C1B-45BD-9FFA-ECDF4BC5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DE223-F5DE-4FB6-B155-192E5D5C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7F171-41EA-49A0-B350-23B2EB67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145F2-B5A3-4CE4-A8C8-6CB4B51D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5BB26-D378-4B89-B6F6-037F3CA6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E786A-76F9-409B-84D6-9AAFEDF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B4ACB-0994-4C0E-987B-272AE419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069-7A9A-4589-851B-2E93B0DA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0AC2E-F140-4070-BF97-B25E11A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A63AB-5B1A-480B-8916-D91D1AE6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7265C-2EAE-49FC-818E-0BDCCF8D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F8983-933D-43A3-AB00-6A4BA457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30560-F7F1-4E29-B4CE-12240028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79F9C-53B9-4CE9-B9DD-DA9C5343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1B962-8B66-41E3-8C93-ECF9514C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EA730-6A9A-4A69-848D-0495F3E9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3DC6D-160A-4967-94A0-519DD4AB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E9578-F299-4AE6-BE30-35E7AB11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A27-81CF-4282-A8D9-C64FBCD6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7ED38-A7D3-461D-B7D1-1E6975C1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0BE1F-C9F1-4ECF-B7F2-20355196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5CADE-A0C7-4372-A85E-C887336C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D18A3-CFF7-49A7-8BA0-310154D7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456AC-2DF6-47E9-ABD6-D6EAC819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4715F-1664-41FE-901D-0F3515E5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087CC-5EE4-4048-BFB6-BE361B77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D6949-5F9F-4424-A2CD-A2FBA4A7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55663-4498-49CE-A84F-03233E51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495D6-E154-4568-8969-2D7D7802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352-34CB-4379-8D25-F3416A31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78531-D290-422C-85D5-AE6D0C08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E78BD-A5D1-412E-A78A-5DFD48D4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00368-D0E9-46F2-88B4-6B2FB1F4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2CE8A-1761-4239-BBAE-18271645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2E7E6-F547-4981-8EB3-6B090F99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86E7D-9B93-42BC-9DD8-A906AE5B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C54A4-19A7-45EF-88E5-8179E093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9A149-92FA-4218-84D4-E262EFEB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D2877-7A71-4A1D-871A-E2D11C04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D353F-6CAC-4EB9-AEB0-4BCF6CF3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53D-7A56-4156-8E5B-2497B3B1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E49F6-7DEA-4854-BC3D-22AE1BFD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54396-9808-4DB5-B32E-593FED45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E903C-BD3B-46C4-88ED-BEF7495B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20758-E41E-45F7-A4FE-21F88F9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2CA91-6CDE-422C-B8A8-E3B6140E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E9C10-C245-4457-B627-95726BC4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76BC9-257B-4EEA-9A02-7011F8BC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7EF3A-D2EE-4046-953A-68CD21CA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BE60F-793C-42F1-9A84-62D7A12E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B2E-EF9F-409E-A866-0E68FE5F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811-DD47-49FC-85EE-FFF562EC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5F6-9EFD-4BF8-8A55-25512E3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832-A951-4597-864E-A307B442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6B8-7E14-4559-934A-3773F3E2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8AB-B080-4BCA-9022-DE7CBA6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13A-2C0B-4D67-97B7-10CDF338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2BC-A173-4879-A4FD-BB82A66C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1ACE-5BD6-4B2E-85E1-346CD186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3EE8-FA58-445E-B2C5-DA297CD2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6438-4A0C-4B5B-ADE4-26E9A024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EFF2-A194-4250-BCA4-F888A287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E250-12E7-441C-B3D3-8955F045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D7D7-F90C-4A46-8CFC-1200ABA5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20B6-DCA7-4A61-A013-356C5BA8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B5AA-8D82-4864-9FC8-86809BF6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2A77-20ED-4400-AB2A-167F3A1A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7303-F4F4-4BBE-86F9-928CD7B7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F384-B25D-44F9-8586-C6C2E9C0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6616-8ABB-4FE9-975B-0E509D9A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40F0-F89F-480F-B695-0FB3C6B5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F27F-916D-4A60-BAED-E819DE72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A488-528F-47B0-B766-D2368411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745F-59FD-4F88-8E54-3AE31E1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6E6D-C03E-41BA-B21A-96B193FA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AAA0-1F5D-40E6-A2CD-7D1133B2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C389-B6B1-4B1A-86FC-FF764654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17A9-51C8-4B68-9F0E-D411367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12AA-70E0-4465-A093-9D573E5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2DA1-ED30-49ED-BAEF-E67A8A0E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CB36-34EC-4832-A499-1D6057C0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407CB-09C7-4F8D-BD79-0682B010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64E54-5CD7-46AA-80C6-90D0C3AF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D18D7-0B36-45DB-934E-8323E07C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F738-1D6F-4540-833D-4F81F457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19F0E-0EFC-4C7D-BD72-9418F919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FDFF-4007-471C-9394-33780B5D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0A4C-CE86-4395-8EFA-716C3861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E56C-ABC3-4E5B-9B69-8FDE71CE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966CB-B9BD-4917-AF6D-CF0D47D1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031E-EE22-4CC6-B1CF-EE0BBF4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7977-74C6-46B1-A2CC-CE580EA7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30A0-9AC1-4D27-8B07-3ECD4735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D951E-210E-4D44-8F6E-17C84F94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C968-D5CA-4762-AA9E-2CF5F3D0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F66F-F4A9-41F9-9E47-FFFB936D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7A1F-1E65-4CF7-869C-87005D15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5D666-E57C-45AB-ADF6-08938ECE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C89ED-FC82-4568-81E2-7189F702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D390-6CF5-469D-B6F4-E778C17C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3ABBD-F3B9-45E9-83A0-6E9295F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F794-35CB-4276-BE4A-87780DF3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E8CAB-2D2E-4A1C-B5F4-0F0EDAC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5CA28-521D-413C-B301-30876797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43366-54E2-4C87-A8D9-8954684E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272A-D4E0-45C9-9BDF-E4737B41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26669-7BA2-46C7-9A52-89D98EB2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D4718-6584-4AE6-B2BD-EBB6344B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19B8-CBAA-4E80-8A43-E2F4785C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8AE86-AAA9-40A7-8020-480ACE6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E13A7-F44B-408F-BD0D-B4FE9387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D5AE7-A7B5-4012-943F-DAE72286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74B5-1026-48FF-8CB7-838955BF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71867-0496-461F-AF97-309948D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02EA-130D-404F-A1C8-2CCD35A2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0402D-3C90-462A-A327-B79D294C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589C9-364A-4613-9D21-498C3DD4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8EFB-F6BF-4308-A15C-DE452FEE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3CF2-FEFF-4586-9DEE-3C5BBC3E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1DB08-24B8-4F47-A070-0331C3C8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CF70-8EAE-4CD5-A0E7-7F9962A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30BC-67A2-4081-8F15-62AB1F99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ACB4-CC24-45D6-8C88-D806C57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BE4DB-933B-4492-90A7-0DC2F37C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7470C-79D8-4C31-94E6-6DFCAF63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94B1B-3CFC-4D04-A1BB-BD07AE2E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EA70E-BAE5-4B59-8C03-C710A666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15A83-8B73-432A-B313-7277D5BC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B871F-AAF3-4C20-8FBB-A1E8806B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FA8F4-49B7-4356-A0AC-93CACAA9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3689-25B3-4616-B560-1736C454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19A9-007D-44D0-89E9-A26E4598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C14E-3298-4695-8A63-3D6FA3E1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91FA-43AA-4DC5-9381-823130D66DE1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9CDA-7B94-46EE-8444-CBEF6297B6F0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3D8A-9009-49C7-A852-FA921F72F1AE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97C6-9A61-4F4A-BA7A-D5E050B6D005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0C66-781E-4D0F-A155-3A826478EC7C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0667-AEDA-4BFC-88C6-31F9089269C7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E256-1409-4EEB-A006-AAB60AC7D808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EC69-270E-4080-AD16-AEAABA843BFC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8229-CA2D-4322-A915-2624DB17637E}" type="datetime">
              <a:rPr b="0" lang="es-MX" sz="24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841D-AA18-4CF4-BCC1-183384637C33}" type="slidenum">
              <a:rPr b="0" lang="es-MX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8639-94C0-42FE-8F52-AF19FE14C55A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8A33-F96B-491E-AD28-CA1FC0E42123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F641-5FAE-4EF9-AC7F-A66B5A220B87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DBD3-87B8-44C4-977B-EBEC7E238DF5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43EA-CF0A-4481-874F-78BF008F0837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0E8F-AC99-409D-A93B-0F426148828E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1ED6-E7B0-4F44-8062-F52833E8EC74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11E9-52BF-4994-842B-953B1D0E4208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5198-1FF1-4A59-AB84-26065901CD90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F05-13FB-4125-B529-B7D450F33924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2A14-3855-4C7C-A049-43FDB5EF1EC4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F769-E773-45C2-8C21-A8797A024636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9DE7-DC49-4F9B-8330-D82483FE6C3A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2E8-782A-4B82-A30E-1C920B25C7D5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8079-D27B-4B45-ABFE-3F8EA5F10593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F729-2E67-4F4F-8DAA-2D44CEFB2C1D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INSTRUMENTOS PARA LA EVALUACIÓ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0926-CAB8-40FB-8712-3E9445E4779D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611280" y="1411200"/>
            <a:ext cx="7473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LISTA DE COTE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258920" y="2060640"/>
          <a:ext cx="6095880" cy="2244600"/>
        </p:xfrm>
        <a:graphic>
          <a:graphicData uri="http://schemas.openxmlformats.org/drawingml/2006/table">
            <a:tbl>
              <a:tblPr/>
              <a:tblGrid>
                <a:gridCol w="4200480"/>
                <a:gridCol w="934920"/>
                <a:gridCol w="96048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PEC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jó el polígono indic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ó cada uno de los vért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izó el centro de ro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538C-DDBC-40A2-9789-CAD672CF7BDA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1 Rectángulo"/>
          <p:cNvSpPr/>
          <p:nvPr/>
        </p:nvSpPr>
        <p:spPr>
          <a:xfrm>
            <a:off x="285840" y="21420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95d63"/>
                </a:solidFill>
                <a:latin typeface="Arial"/>
              </a:rPr>
              <a:t>Quinto grado. Bloque IV.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Hacer una obra de teatro con personajes prototípicos de cu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2 Flecha curvada hacia abajo"/>
          <p:cNvSpPr/>
          <p:nvPr/>
        </p:nvSpPr>
        <p:spPr>
          <a:xfrm rot="20970600">
            <a:off x="3132000" y="620280"/>
            <a:ext cx="3000600" cy="714600"/>
          </a:xfrm>
          <a:custGeom>
            <a:avLst/>
            <a:gdLst>
              <a:gd name="textAreaLeft" fmla="*/ 682920 w 3000600"/>
              <a:gd name="textAreaRight" fmla="*/ 2228040 w 300060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6" hR="21600" stAng="10800000" swAng="5400000"/>
                <a:lnTo>
                  <a:pt x="11121" y="0"/>
                </a:lnTo>
                <a:arcTo wR="9836" hR="21600" stAng="-5400000" swAng="3626784"/>
                <a:lnTo>
                  <a:pt x="21288" y="16200"/>
                </a:lnTo>
                <a:lnTo>
                  <a:pt x="20315" y="21600"/>
                </a:lnTo>
                <a:lnTo>
                  <a:pt x="18717" y="16200"/>
                </a:lnTo>
                <a:lnTo>
                  <a:pt x="19360" y="16200"/>
                </a:lnTo>
                <a:arcTo wR="9836" hR="21600" stAng="-1773216" swAng="-3524338"/>
                <a:lnTo>
                  <a:pt x="10479" y="46"/>
                </a:lnTo>
                <a:arcTo wR="9836" hR="21600" stAng="-5502446" swAng="-5297554"/>
                <a:close/>
              </a:path>
              <a:path fill="darkenLess" w="21600" h="21600">
                <a:moveTo>
                  <a:pt x="0" y="21600"/>
                </a:moveTo>
                <a:arcTo wR="9836" hR="21600" stAng="10800000" swAng="5400000"/>
                <a:lnTo>
                  <a:pt x="9836" y="0"/>
                </a:lnTo>
                <a:arcTo wR="9836" hR="21600" stAng="-5400000" swAng="102446"/>
                <a:lnTo>
                  <a:pt x="10479" y="46"/>
                </a:lnTo>
                <a:arcTo wR="9836" hR="21600" stAng="-5502446" swAng="-5297554"/>
                <a:close/>
              </a:path>
            </a:pathLst>
          </a:custGeom>
          <a:solidFill>
            <a:srgbClr val="4f81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24000" y="1108080"/>
          <a:ext cx="3571560" cy="5694480"/>
        </p:xfrm>
        <a:graphic>
          <a:graphicData uri="http://schemas.openxmlformats.org/drawingml/2006/table">
            <a:tbl>
              <a:tblPr/>
              <a:tblGrid>
                <a:gridCol w="1744560"/>
                <a:gridCol w="182700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tan acerca de las características de los personajes princip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n a los protagonistas y antagonistas de los  cuentos  por su prototip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inguen entre características físicas y psicológ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an el tema acerca del cual se desarrollará la trama de la obra que escribirá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an las escenas, los diálogos, los personaj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riben las escenas en el tipo de texto correspondiente (guió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parci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a  comparat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fican las características psicológicas y fís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fin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ón de teat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ue la estructura del tipo de text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 acotacio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 signos de puntuación que indican expresiones específicas de los personajes(enojo, admiración, sorpresa, etc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escenas y diálogos son coherent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glas  gramaticales y ortográficas están presentes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grpSp>
        <p:nvGrpSpPr>
          <p:cNvPr id="667" name="Group 70"/>
          <p:cNvGrpSpPr/>
          <p:nvPr/>
        </p:nvGrpSpPr>
        <p:grpSpPr>
          <a:xfrm>
            <a:off x="4071960" y="1143000"/>
            <a:ext cx="4357800" cy="5392800"/>
            <a:chOff x="4071960" y="1143000"/>
            <a:chExt cx="4357800" cy="5392800"/>
          </a:xfrm>
        </p:grpSpPr>
        <p:sp>
          <p:nvSpPr>
            <p:cNvPr id="668" name="Rectangle 16"/>
            <p:cNvSpPr/>
            <p:nvPr/>
          </p:nvSpPr>
          <p:spPr>
            <a:xfrm>
              <a:off x="4071960" y="1143000"/>
              <a:ext cx="4357800" cy="365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LISTA DE COT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7"/>
            <p:cNvSpPr/>
            <p:nvPr/>
          </p:nvSpPr>
          <p:spPr>
            <a:xfrm>
              <a:off x="4071960" y="150804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8"/>
            <p:cNvSpPr/>
            <p:nvPr/>
          </p:nvSpPr>
          <p:spPr>
            <a:xfrm>
              <a:off x="6022800" y="1508040"/>
              <a:ext cx="24069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9"/>
            <p:cNvSpPr/>
            <p:nvPr/>
          </p:nvSpPr>
          <p:spPr>
            <a:xfrm>
              <a:off x="4071960" y="1873080"/>
              <a:ext cx="195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20"/>
            <p:cNvSpPr/>
            <p:nvPr/>
          </p:nvSpPr>
          <p:spPr>
            <a:xfrm>
              <a:off x="6022800" y="1873080"/>
              <a:ext cx="376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21"/>
            <p:cNvSpPr/>
            <p:nvPr/>
          </p:nvSpPr>
          <p:spPr>
            <a:xfrm>
              <a:off x="6399360" y="1873080"/>
              <a:ext cx="439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2"/>
            <p:cNvSpPr/>
            <p:nvPr/>
          </p:nvSpPr>
          <p:spPr>
            <a:xfrm>
              <a:off x="6838920" y="1873080"/>
              <a:ext cx="159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Observacio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3"/>
            <p:cNvSpPr/>
            <p:nvPr/>
          </p:nvSpPr>
          <p:spPr>
            <a:xfrm>
              <a:off x="4071960" y="245124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al menos tres características  psicológicas de los protagonist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24"/>
            <p:cNvSpPr/>
            <p:nvPr/>
          </p:nvSpPr>
          <p:spPr>
            <a:xfrm>
              <a:off x="6022800" y="245124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25"/>
            <p:cNvSpPr/>
            <p:nvPr/>
          </p:nvSpPr>
          <p:spPr>
            <a:xfrm>
              <a:off x="6399360" y="245124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26"/>
            <p:cNvSpPr/>
            <p:nvPr/>
          </p:nvSpPr>
          <p:spPr>
            <a:xfrm>
              <a:off x="6838920" y="245124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27"/>
            <p:cNvSpPr/>
            <p:nvPr/>
          </p:nvSpPr>
          <p:spPr>
            <a:xfrm>
              <a:off x="4071960" y="321480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las características de  los textos (guiones de teatro) dramáticos investigad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28"/>
            <p:cNvSpPr/>
            <p:nvPr/>
          </p:nvSpPr>
          <p:spPr>
            <a:xfrm>
              <a:off x="6022800" y="321480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29"/>
            <p:cNvSpPr/>
            <p:nvPr/>
          </p:nvSpPr>
          <p:spPr>
            <a:xfrm>
              <a:off x="6399360" y="321480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0"/>
            <p:cNvSpPr/>
            <p:nvPr/>
          </p:nvSpPr>
          <p:spPr>
            <a:xfrm>
              <a:off x="6838920" y="321480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1"/>
            <p:cNvSpPr/>
            <p:nvPr/>
          </p:nvSpPr>
          <p:spPr>
            <a:xfrm>
              <a:off x="4071960" y="3978360"/>
              <a:ext cx="195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Discuten acerca de la trama y los personajes de la obr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2"/>
            <p:cNvSpPr/>
            <p:nvPr/>
          </p:nvSpPr>
          <p:spPr>
            <a:xfrm>
              <a:off x="6022800" y="3978360"/>
              <a:ext cx="376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3"/>
            <p:cNvSpPr/>
            <p:nvPr/>
          </p:nvSpPr>
          <p:spPr>
            <a:xfrm>
              <a:off x="6399360" y="3978360"/>
              <a:ext cx="439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4"/>
            <p:cNvSpPr/>
            <p:nvPr/>
          </p:nvSpPr>
          <p:spPr>
            <a:xfrm>
              <a:off x="6838920" y="3978360"/>
              <a:ext cx="159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35"/>
            <p:cNvSpPr/>
            <p:nvPr/>
          </p:nvSpPr>
          <p:spPr>
            <a:xfrm>
              <a:off x="4071960" y="455292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36"/>
            <p:cNvSpPr/>
            <p:nvPr/>
          </p:nvSpPr>
          <p:spPr>
            <a:xfrm>
              <a:off x="6022800" y="4552920"/>
              <a:ext cx="376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37"/>
            <p:cNvSpPr/>
            <p:nvPr/>
          </p:nvSpPr>
          <p:spPr>
            <a:xfrm>
              <a:off x="6399360" y="4552920"/>
              <a:ext cx="439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38"/>
            <p:cNvSpPr/>
            <p:nvPr/>
          </p:nvSpPr>
          <p:spPr>
            <a:xfrm>
              <a:off x="6838920" y="4552920"/>
              <a:ext cx="159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39"/>
            <p:cNvSpPr/>
            <p:nvPr/>
          </p:nvSpPr>
          <p:spPr>
            <a:xfrm>
              <a:off x="4071960" y="4917960"/>
              <a:ext cx="195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guión contiene: escenas, diálogos y acotac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40"/>
            <p:cNvSpPr/>
            <p:nvPr/>
          </p:nvSpPr>
          <p:spPr>
            <a:xfrm>
              <a:off x="6022800" y="4917960"/>
              <a:ext cx="376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41"/>
            <p:cNvSpPr/>
            <p:nvPr/>
          </p:nvSpPr>
          <p:spPr>
            <a:xfrm>
              <a:off x="6399360" y="4917960"/>
              <a:ext cx="439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42"/>
            <p:cNvSpPr/>
            <p:nvPr/>
          </p:nvSpPr>
          <p:spPr>
            <a:xfrm>
              <a:off x="6838920" y="4917960"/>
              <a:ext cx="159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43"/>
            <p:cNvSpPr/>
            <p:nvPr/>
          </p:nvSpPr>
          <p:spPr>
            <a:xfrm>
              <a:off x="4071960" y="5345280"/>
              <a:ext cx="195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texto es coherente con respecto a la trama y los diálog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44"/>
            <p:cNvSpPr/>
            <p:nvPr/>
          </p:nvSpPr>
          <p:spPr>
            <a:xfrm>
              <a:off x="6022800" y="5345280"/>
              <a:ext cx="376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6399360" y="5345280"/>
              <a:ext cx="439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46"/>
            <p:cNvSpPr/>
            <p:nvPr/>
          </p:nvSpPr>
          <p:spPr>
            <a:xfrm>
              <a:off x="6838920" y="5345280"/>
              <a:ext cx="159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47"/>
            <p:cNvSpPr/>
            <p:nvPr/>
          </p:nvSpPr>
          <p:spPr>
            <a:xfrm>
              <a:off x="4071960" y="5940360"/>
              <a:ext cx="195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Al hacer la lectura, los actores dan las intenciones mencionad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8"/>
            <p:cNvSpPr/>
            <p:nvPr/>
          </p:nvSpPr>
          <p:spPr>
            <a:xfrm>
              <a:off x="6022800" y="5940360"/>
              <a:ext cx="376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49"/>
            <p:cNvSpPr/>
            <p:nvPr/>
          </p:nvSpPr>
          <p:spPr>
            <a:xfrm>
              <a:off x="6399360" y="5940360"/>
              <a:ext cx="439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50"/>
            <p:cNvSpPr/>
            <p:nvPr/>
          </p:nvSpPr>
          <p:spPr>
            <a:xfrm>
              <a:off x="6838920" y="5940360"/>
              <a:ext cx="159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51"/>
            <p:cNvSpPr/>
            <p:nvPr/>
          </p:nvSpPr>
          <p:spPr>
            <a:xfrm>
              <a:off x="6022800" y="1508040"/>
              <a:ext cx="0" cy="502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52"/>
            <p:cNvSpPr/>
            <p:nvPr/>
          </p:nvSpPr>
          <p:spPr>
            <a:xfrm>
              <a:off x="639936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53"/>
            <p:cNvSpPr/>
            <p:nvPr/>
          </p:nvSpPr>
          <p:spPr>
            <a:xfrm>
              <a:off x="683892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54"/>
            <p:cNvSpPr/>
            <p:nvPr/>
          </p:nvSpPr>
          <p:spPr>
            <a:xfrm>
              <a:off x="4071960" y="1508040"/>
              <a:ext cx="43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55"/>
            <p:cNvSpPr/>
            <p:nvPr/>
          </p:nvSpPr>
          <p:spPr>
            <a:xfrm>
              <a:off x="4071960" y="1873080"/>
              <a:ext cx="19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56"/>
            <p:cNvSpPr/>
            <p:nvPr/>
          </p:nvSpPr>
          <p:spPr>
            <a:xfrm>
              <a:off x="6022800" y="1873080"/>
              <a:ext cx="240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57"/>
            <p:cNvSpPr/>
            <p:nvPr/>
          </p:nvSpPr>
          <p:spPr>
            <a:xfrm>
              <a:off x="4071960" y="245124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58"/>
            <p:cNvSpPr/>
            <p:nvPr/>
          </p:nvSpPr>
          <p:spPr>
            <a:xfrm>
              <a:off x="4071960" y="3214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Line 59"/>
            <p:cNvSpPr/>
            <p:nvPr/>
          </p:nvSpPr>
          <p:spPr>
            <a:xfrm>
              <a:off x="4071960" y="3978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Line 60"/>
            <p:cNvSpPr/>
            <p:nvPr/>
          </p:nvSpPr>
          <p:spPr>
            <a:xfrm>
              <a:off x="4071960" y="455292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61"/>
            <p:cNvSpPr/>
            <p:nvPr/>
          </p:nvSpPr>
          <p:spPr>
            <a:xfrm>
              <a:off x="4071960" y="49179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62"/>
            <p:cNvSpPr/>
            <p:nvPr/>
          </p:nvSpPr>
          <p:spPr>
            <a:xfrm>
              <a:off x="4071960" y="534528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63"/>
            <p:cNvSpPr/>
            <p:nvPr/>
          </p:nvSpPr>
          <p:spPr>
            <a:xfrm>
              <a:off x="4071960" y="5940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64"/>
            <p:cNvSpPr/>
            <p:nvPr/>
          </p:nvSpPr>
          <p:spPr>
            <a:xfrm>
              <a:off x="40719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65"/>
            <p:cNvSpPr/>
            <p:nvPr/>
          </p:nvSpPr>
          <p:spPr>
            <a:xfrm>
              <a:off x="84297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66"/>
            <p:cNvSpPr/>
            <p:nvPr/>
          </p:nvSpPr>
          <p:spPr>
            <a:xfrm>
              <a:off x="4071960" y="11430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67"/>
            <p:cNvSpPr/>
            <p:nvPr/>
          </p:nvSpPr>
          <p:spPr>
            <a:xfrm>
              <a:off x="4071960" y="6535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57 Marcador de número de diapositiva"/>
          <p:cNvSpPr/>
          <p:nvPr/>
        </p:nvSpPr>
        <p:spPr>
          <a:xfrm>
            <a:off x="6553080" y="6564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0541-B5EA-4A57-977A-92D0A0CBAABB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6383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CALA DE VALOR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iene enunciados sobre una serie de características, cualidades, aspectos, etc., acompañados de una escala graduada sobre lo que interesa medi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grado de presencia de las características se expresa mediante categorías cuantitativas o cualita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pueden utilizar escalas numéricas, gráficas y descriptivas para definir las categorí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5A3F-385F-4C7F-BDFC-2A99E2DF2A5B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5973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jemplos de categorí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95280" y="1844640"/>
          <a:ext cx="8137440" cy="37353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nt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l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ra fo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0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h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c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mpr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siemp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ec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nunca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ci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72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4CAB-26C9-4C81-812B-F25F1F231073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GISTRO ANECDÓ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onsiste en la descripción de incidentes o hechos que se consideran "críticos" porque manifiestan un comportamiento representativo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videncia, objetiva y longitudinal, de las actitudes y comportamientos mantenidos por el estudiante, de las causas o motivaciones de su comportamiento, así como de si se ha producido algún cambi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porciona la fecha, el lugar y el contexto de ocurrencia, la descripción de un incidente particular y una primera valoración provision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37C9-7AEE-4B87-BB1F-57912AE52B0A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42960" y="1428840"/>
            <a:ext cx="74739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REGISTRO ANECD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571680" y="2214720"/>
            <a:ext cx="806436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estro:  Manuel Porras       Alumna: Adriana Bauer     Fecha 21/5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pción:  Adriana no hizo formación para entrar al aula. Entró con retardo de diez minutos, se sentó, abrió su cuaderno y comenzó a escribir. Al acercarme noté que hacía garabatos en su cuaderno, simulaba escrib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retación: La actitud de Adriana pudo haber obedecido a que debía traer de su casa una cámara filmadora que ella ofreció espontáneamente para grabar la clase. No la trajo,  es posible que evadió la situación para no dar explic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80F7-218E-4812-8E9F-69CF99AC4134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0" y="0"/>
          <a:ext cx="9072720" cy="6885000"/>
        </p:xfrm>
        <a:graphic>
          <a:graphicData uri="http://schemas.openxmlformats.org/drawingml/2006/table">
            <a:tbl>
              <a:tblPr/>
              <a:tblGrid>
                <a:gridCol w="1744560"/>
                <a:gridCol w="1339920"/>
                <a:gridCol w="1089000"/>
                <a:gridCol w="1352520"/>
                <a:gridCol w="906480"/>
                <a:gridCol w="1114560"/>
                <a:gridCol w="1525680"/>
              </a:tblGrid>
              <a:tr h="257400"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 para la Evaluación del Desempeñ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grid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Conceptu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Procedime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tudes y Val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bilidades del Pensamien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xiliar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</a:tr>
              <a:tr h="98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chos y da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ios y concep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as Ment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0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ción de Probl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51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todo de ca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27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 Rúb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cnica de la Pregu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2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say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40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afol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87F6-8920-448A-BAC5-1D48BD1E8A6E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TAFOLI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 un sistema de evaluación que comprende la compilación sistemática de trabajos, materiales y actividades que desarrolla el estudiante durante un periodo determin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muestra evidencias y vivencias de aprendizaje que facilitan la apreciación del progreso del alumno y su apropiación de determinados conocimient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04B3-DA2B-4920-84F9-B37B45941231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2840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observa el proceso de aprendizaje de cada alumno en particula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ja espacio para considerar las diferencias individuales entre los estudiant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nvolucra a los estudiantes en la reflexión sobre su progre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Recoge una amplia gama de desempeños con una perspectiva del desarrollo continu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Permite una evaluación colaborativ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55D8-CCA0-487B-82D8-51EA14D4B9FE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Tiempo que demanda su revisión y definición de criterios de correc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finir claramente el propósito de las carpet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mplican un gran esfuerzo de organización, gestión y registro de la inform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ignifica un trabajo intenso y continuo de revisión y diálogo permanente con los alumnos, lo que hace de la carpeta una actividad que supera en tiempo a la corrección de cualquier tipo de prueb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9BA-3C24-4F2E-B127-EAE1AE238A23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3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ÚBRICA O MATRIZ DE VERIFIC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71400"/>
            <a:ext cx="7686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herramienta de corroboración que contiene los criterios específicos de calidad esperados de un proceso o producto expresados en una escala descrip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tablece una gradación en niveles de calidad del desempeño en situaciones que pueden ser complejas, imprecisas y/o subje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7435-AD7B-4AF9-81DE-70D678D8EF06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42560" y="1356840"/>
            <a:ext cx="800100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romueve expectativas claras de aprendiza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porciona una retroalimentación eficiente y especifica con respecto de las áreas de fortaleza y debilida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Es conveniente para la evaluación de objetivos tanto de proceso como de product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mueve la autoevaluación para orientar procedimiento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Minimiza la subjetividad en la calific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5F3D-AC01-46F5-B614-FC0B9DE8E2FB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2 CuadroTexto"/>
          <p:cNvSpPr/>
          <p:nvPr/>
        </p:nvSpPr>
        <p:spPr>
          <a:xfrm>
            <a:off x="357120" y="5000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 grado. Bloque II.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Leer el periód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00040" y="2000160"/>
          <a:ext cx="7929720" cy="3784680"/>
        </p:xfrm>
        <a:graphic>
          <a:graphicData uri="http://schemas.openxmlformats.org/drawingml/2006/table">
            <a:tbl>
              <a:tblPr/>
              <a:tblGrid>
                <a:gridCol w="2357640"/>
                <a:gridCol w="1990440"/>
                <a:gridCol w="1866960"/>
                <a:gridCol w="171468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egor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 log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 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 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organización del 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al menos tres secciones  del periódico y las ejemplif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secciones  del periód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que se divide en sec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función de las marcas grá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cuál es la noticia importante por la tipografía y ubicación en el periód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otra noticia por la tipografía , que no es la import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otra noticia por la tipograf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cipa la información a partir de letras conocidas o por la extensión del te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el título de la noticia y su contenido a partir de reconocer  letras  y por la extensión de los enunci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o deduce el título de  la noticia partir de reconocer  letras  iniciales  y finales  y, por las fotografí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parcialmente la información a partir de fotograf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654" name="3 CuadroTexto"/>
          <p:cNvSpPr/>
          <p:nvPr/>
        </p:nvSpPr>
        <p:spPr>
          <a:xfrm>
            <a:off x="3651120" y="14288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ÚB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F04B-1A28-4C5D-9F36-1FD6FD109A8B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ISTA DE COTEJ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lista de características, aspectos, cualidades, secuencia de acciones, etc., evidenciables  sobre las que interesa determinar su presencia y ausenci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medir variables en términos dicotómic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hacer registros de conductas observadas en grupos    numeros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2A63-9A42-482B-9774-A81D447FF0F1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99680" y="692280"/>
            <a:ext cx="774396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registro demanda poco tiemp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análisis de los datos resulta una operación generalmente rápid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permite evaluar varios momentos en el desarrollo de un proceso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6B8F-6EC3-4604-8689-C8158F806CE0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2:44:45Z</dcterms:created>
  <dc:creator>GGRM</dc:creator>
  <dc:description/>
  <dc:language>en-US</dc:language>
  <cp:lastModifiedBy>Betty</cp:lastModifiedBy>
  <dcterms:modified xsi:type="dcterms:W3CDTF">2010-02-08T14:13:34Z</dcterms:modified>
  <cp:revision>244</cp:revision>
  <dc:subject/>
  <dc:title>Diapositiva 1</dc:title>
</cp:coreProperties>
</file>