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Paganini%20-%20violin%20sonata%20no6%202.29.wav" ContentType="audio/x-wav"/>
  <Override PartName="/ppt/media/image6.jpeg" ContentType="image/jpeg"/>
  <Override PartName="/ppt/media/image1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95D-3A12-42CB-BE9A-7D6E1FC9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A8CA-CCC5-4446-87D6-171CE323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B3CE-F3A1-4F68-BC75-4179D600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4A3-046B-47CC-A37F-349EB230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2475-E484-4EA7-AEA1-248C45DB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51E6-97D4-448C-8823-2E499733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5B15-20F9-40D1-B418-4733F891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3D4-22C4-409D-9605-443E24DE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DAD7-1321-46D8-A15F-D6D62D37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FBE3-8460-4A41-911D-BCF0DB22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873-68D1-439D-B441-962D3611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9FC1-2FC6-4C0B-8557-3A2A56D9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7517-F017-45BE-B9F2-FF93B8E1348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aganini%20-%20violin%20sonata%20no6%202.29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14600" y="533520"/>
            <a:ext cx="6248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RA UNA VEZ un gran violinista llamado PAGANINI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04920" y="3962520"/>
            <a:ext cx="3124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lgunos decían que él era muy extraño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4572000" y="2590920"/>
            <a:ext cx="25909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tros, que era sobrenatural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  <p:sndAc>
      <p:stSnd>
        <p:snd r:embed="rId2" name="Paganini%20-%20violin%20sonata%20no6%202.2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04920" y="304920"/>
            <a:ext cx="396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público parte del silencio para la euforia,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 la inercia para el delirio.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181480" y="304920"/>
            <a:ext cx="39625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anini alcanza la gloria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 nombre corre a través del tiempo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es apenas un violinista genial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09480" y="4648320"/>
            <a:ext cx="449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s el símbolo del profesional que continúa adelante frente a lo imposibl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3" presetSubtype="27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200"/>
                            </p:stCondLst>
                            <p:childTnLst>
                              <p:par>
                                <p:cTn id="191" nodeType="afterEffect" fill="hold" presetClass="entr" presetID="23" presetSubtype="27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400"/>
                            </p:stCondLst>
                            <p:childTnLst>
                              <p:par>
                                <p:cTn id="196" nodeType="afterEffect" fill="hold" presetClass="entr" presetID="23" presetSubtype="27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6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838080" y="457200"/>
            <a:ext cx="7467840" cy="58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oral de la Historia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Yo no se el tipo de problemas que estás teniendo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uede ser un problema personal, conyugal, familiar,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o se lo que está afectando tu estima o tu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sempeño profesional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 una cosa si se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o todo está perdido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odavía existe una cuerda y es 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ocando con ella que ejercerás tu talento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ocando con ella es que vibrarás.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100"/>
                            </p:stCondLst>
                            <p:childTnLst>
                              <p:par>
                                <p:cTn id="212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200"/>
                            </p:stCondLst>
                            <p:childTnLst>
                              <p:par>
                                <p:cTn id="216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300"/>
                            </p:stCondLst>
                            <p:childTnLst>
                              <p:par>
                                <p:cTn id="220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400"/>
                            </p:stCondLst>
                            <p:childTnLst>
                              <p:par>
                                <p:cTn id="224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600"/>
                            </p:stCondLst>
                            <p:childTnLst>
                              <p:par>
                                <p:cTn id="232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219320" y="1066680"/>
            <a:ext cx="6778440" cy="49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prende a aceptar que la vida siempre te dejará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una última cuerda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uando estés desanimado, nunca desistas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ún existirá la cuerda de la persistencia inteligente, del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“intentar una vez más",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l dar un paso más con un enfoque nuevo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spierta el Paganini que existe dentro de ti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y avanza para vencer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Victoria es el arte de continuar,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onde los otros resuelven parar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"/>
                            </p:stCondLst>
                            <p:childTnLst>
                              <p:par>
                                <p:cTn id="243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400"/>
                            </p:stCondLst>
                            <p:childTnLst>
                              <p:par>
                                <p:cTn id="247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100"/>
                            </p:stCondLst>
                            <p:childTnLst>
                              <p:par>
                                <p:cTn id="251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800"/>
                            </p:stCondLst>
                            <p:childTnLst>
                              <p:par>
                                <p:cTn id="255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1066680" y="457200"/>
            <a:ext cx="7239240" cy="64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uando todo parece desmoronarse, bríndate una oportunidad y continúa hacia adelante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oca la cuerda de la motivación y arráncale sonidos de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resultados positivos. 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 antes pregúntate: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¿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uién motiva al motivador?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sto es: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¿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uién motiva tu cerebro,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ue motiva tu mano, que toca tu violín?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o te frustres, no te desesperes, recuerda: aún existe la última cuerda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cuerda del aprender de nuevo para deslumbrar y generar soluciones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00"/>
                            </p:stCondLst>
                            <p:childTnLst>
                              <p:par>
                                <p:cTn id="266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400"/>
                            </p:stCondLst>
                            <p:childTnLst>
                              <p:par>
                                <p:cTn id="270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100"/>
                            </p:stCondLst>
                            <p:childTnLst>
                              <p:par>
                                <p:cTn id="274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800"/>
                            </p:stCondLst>
                            <p:childTnLst>
                              <p:par>
                                <p:cTn id="278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200"/>
                            </p:stCondLst>
                            <p:childTnLst>
                              <p:par>
                                <p:cTn id="286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295280" y="685800"/>
            <a:ext cx="685800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unca la vida te romperá todas las cuerdas. 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i los resultados están mal, es tu oportunidad de tocar la última cuerda, la de la imaginación que reinventa el futuro con innovación continua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s siempre la cuerda olvidada que te dará el mayor resultado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, si por acaso, estuvieras en el fondo del pozo, esta es tu oportunidad de tocar con la mejor cuerda del universo: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reer en tí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JL</a:t>
            </a:r>
            <a:endParaRPr b="1" lang="en-US" sz="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00"/>
                            </p:stCondLst>
                            <p:childTnLst>
                              <p:par>
                                <p:cTn id="297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400"/>
                            </p:stCondLst>
                            <p:childTnLst>
                              <p:par>
                                <p:cTn id="301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100"/>
                            </p:stCondLst>
                            <p:childTnLst>
                              <p:par>
                                <p:cTn id="305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800"/>
                            </p:stCondLst>
                            <p:childTnLst>
                              <p:par>
                                <p:cTn id="309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5562720" y="0"/>
            <a:ext cx="35812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notas mágicas que salían de su violín tenían un sonido diferente, por eso nadie quería perder la oportunidad de ver su espectáculo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33240" y="212760"/>
            <a:ext cx="71629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Una cierta noche, el palco de un auditorio repleto de admiradores estaba preparado para recibirlo.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ra entró y fue aplaudida.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fue ovacionado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3962520" y="5394240"/>
            <a:ext cx="472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Mas cuando la figura de Paganini surgió, triunfante, el público deli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"/>
                            </p:stCondLst>
                            <p:childTnLst>
                              <p:par>
                                <p:cTn id="31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237680" y="5018040"/>
            <a:ext cx="776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Breves y semibreves, fusas y semifusas, corcheas y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emicorcheas parecen tener alas y volar con el toque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 sus dedos encantados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981080" y="609480"/>
            <a:ext cx="50292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aganini coloca su violín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n el hombro y lo que se escucha es indescriptibl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violino paganini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-5724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609480" y="0"/>
            <a:ext cx="739152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 repente, un sonido extraño interrumpe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solaz de la platea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Una de las cuerdas del violín de Paganini se rompi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80880" y="2286000"/>
            <a:ext cx="2133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80880" y="3886200"/>
            <a:ext cx="22100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ra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09480" y="5562720"/>
            <a:ext cx="2743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público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562720" y="2133720"/>
            <a:ext cx="2819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 Paganini no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114800" y="4952880"/>
            <a:ext cx="48006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irando su partitura, continúa arrancando sonidos deliciosos de un violín con problemas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 advTm="5000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600"/>
                            </p:stCondLst>
                            <p:childTnLst>
                              <p:par>
                                <p:cTn id="57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00"/>
                            </p:stCondLst>
                            <p:childTnLst>
                              <p:par>
                                <p:cTn id="61" nodeType="afterEffect" fill="hold" presetClass="entr" presetID="23" presetSubtype="27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900"/>
                            </p:stCondLst>
                            <p:childTnLst>
                              <p:par>
                                <p:cTn id="66" nodeType="afterEffect" fill="hold" presetClass="entr" presetID="23" presetSubtype="27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900"/>
                            </p:stCondLst>
                            <p:childTnLst>
                              <p:par>
                                <p:cTn id="71" nodeType="afterEffect" fill="hold" presetClass="entr" presetID="23" presetSubtype="27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900"/>
                            </p:stCondLst>
                            <p:childTnLst>
                              <p:par>
                                <p:cTn id="76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400"/>
                            </p:stCondLst>
                            <p:childTnLst>
                              <p:par>
                                <p:cTn id="81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0" y="304920"/>
            <a:ext cx="43434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ntes de que el público se serenara, 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tro sonido perturbador derrumba la atención de los asistentes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28600" y="380880"/>
            <a:ext cx="388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y la orquesta, exaltados, vuelven a tocar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2280" y="2819520"/>
            <a:ext cx="26672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tra cuerda del violín de Paganini se romp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191120" y="2590920"/>
            <a:ext cx="22096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paró nuevament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05520" y="4114800"/>
            <a:ext cx="2514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a paró nuevamente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819520" y="5791320"/>
            <a:ext cx="3047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aganini no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3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300"/>
                            </p:stCondLst>
                            <p:childTnLst>
                              <p:par>
                                <p:cTn id="100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800"/>
                            </p:stCondLst>
                            <p:childTnLst>
                              <p:par>
                                <p:cTn id="105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300"/>
                            </p:stCondLst>
                            <p:childTnLst>
                              <p:par>
                                <p:cTn id="110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645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o si nada hubiese sucedido, él olvidó las dificuldades y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anzó sacando sonidos de lo imposibl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2133720"/>
            <a:ext cx="380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maestro y la orquesta, impresionados volvieron a tocar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5638680" y="419112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o el público no podría imaginar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 que estaba por suceder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371960" y="6095880"/>
            <a:ext cx="7160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das las personas, atónitas, exclamaron OHHH!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100"/>
                            </p:stCondLst>
                            <p:childTnLst>
                              <p:par>
                                <p:cTn id="122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600"/>
                            </p:stCondLst>
                            <p:childTnLst>
                              <p:par>
                                <p:cTn id="126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100"/>
                            </p:stCondLst>
                            <p:childTnLst>
                              <p:par>
                                <p:cTn id="130" nodeType="afterEffect" fill="hold" presetClass="entr" presetID="23" presetSubtype="28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violino paganin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752480" y="228600"/>
            <a:ext cx="65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Una tercera cuerda del violín de Paganini se romp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087880" y="2009880"/>
            <a:ext cx="34041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se paraliz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a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respiración del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úblico se detuvo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419720" y="44197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 Paganini continu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600200" y="5181480"/>
            <a:ext cx="723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omo si fuese un contorsionista musical, arranca todos los sonidos de la única cuerda que sobrara de su violín destruido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"/>
                            </p:stCondLst>
                            <p:childTnLst>
                              <p:par>
                                <p:cTn id="142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300"/>
                            </p:stCondLst>
                            <p:childTnLst>
                              <p:par>
                                <p:cTn id="147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800"/>
                            </p:stCondLst>
                            <p:childTnLst>
                              <p:par>
                                <p:cTn id="152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300"/>
                            </p:stCondLst>
                            <p:childTnLst>
                              <p:par>
                                <p:cTn id="157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8800"/>
                            </p:stCondLst>
                            <p:childTnLst>
                              <p:par>
                                <p:cTn id="162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3300"/>
                            </p:stCondLst>
                            <p:childTnLst>
                              <p:par>
                                <p:cTn id="167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80880" y="4648320"/>
            <a:ext cx="4648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inguna nota musical fue olvidada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se anima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a se motiva.</a:t>
            </a:r>
            <a:r>
              <a:rPr b="0" lang="pt-BR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7:47:02Z</dcterms:created>
  <dc:creator>Mari Caruso Cunha</dc:creator>
  <dc:description/>
  <dc:language>en-US</dc:language>
  <cp:lastModifiedBy>Betty</cp:lastModifiedBy>
  <dcterms:modified xsi:type="dcterms:W3CDTF">2009-12-07T01:28:17Z</dcterms:modified>
  <cp:revision>17</cp:revision>
  <dc:subject/>
  <dc:title>Apresentação do PowerPoint</dc:title>
</cp:coreProperties>
</file>