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Paganini%20-%20violin%20sonata%20no6%202.29.wav" ContentType="audio/x-wav"/>
  <Override PartName="/ppt/media/image6.jpeg" ContentType="image/jpeg"/>
  <Override PartName="/ppt/media/image1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903D-DEE8-4F8D-B47C-1EF38DBED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EAC6-5C4B-4C03-A187-3F19103CB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242A-1BF9-4C7A-8979-043648E6C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F42B-68B8-4E24-A1D8-CC59889A3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28D0-57FE-45A1-AB26-8892304BA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8BAA-2D2B-4E85-A568-B7B127C5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498E-F548-46F2-9DFB-D52AEC69F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2AD8-61B4-4D37-964F-580F23CEF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AC37-3024-4491-9BC2-FB2E891ED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9B8B-A710-4092-9BD8-2E8379E9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A78C-BC08-49EE-9EDC-2598BC05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CFE2-E9AD-48EF-A902-E33473C7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EBC73-D63D-4099-8F1B-91DCB3AE498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aganini%20-%20violin%20sonata%20no6%202.29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514600" y="533520"/>
            <a:ext cx="624852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ERA UNA VEZ un gran violinista llamado PAGANINI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304920" y="3962520"/>
            <a:ext cx="31240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Algunos decían que él era muy extraño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4572000" y="2590920"/>
            <a:ext cx="259092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Otros, que era sobrenatural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ransition spd="slow">
    <p:fade thruBlk="true"/>
    <p:sndAc>
      <p:stSnd>
        <p:snd r:embed="rId2" name="Paganini%20-%20violin%20sonata%20no6%202.29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14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500"/>
                            </p:stCondLst>
                            <p:childTnLst>
                              <p:par>
                                <p:cTn id="13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304920" y="304920"/>
            <a:ext cx="396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 público parte del silencio para la euforia,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 la inercia para el delirio. 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5181480" y="304920"/>
            <a:ext cx="396252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ganini alcanza la gloria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u nombre corre a través del tiempo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 es apenas un violinista genial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609480" y="4648320"/>
            <a:ext cx="4496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Es el símbolo del profesional que continúa adelante frente a lo imposible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ransition spd="slow">
    <p:fade thruBlk="true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23" presetSubtype="272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200"/>
                            </p:stCondLst>
                            <p:childTnLst>
                              <p:par>
                                <p:cTn id="191" nodeType="afterEffect" fill="hold" presetClass="entr" presetID="23" presetSubtype="272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7400"/>
                            </p:stCondLst>
                            <p:childTnLst>
                              <p:par>
                                <p:cTn id="196" nodeType="afterEffect" fill="hold" presetClass="entr" presetID="23" presetSubtype="272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600"/>
                            </p:stCondLst>
                            <p:childTnLst>
                              <p:par>
                                <p:cTn id="201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838080" y="457200"/>
            <a:ext cx="7467840" cy="58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Moral de la Historia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Yo no se el tipo de problemas que estás teniendo.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Puede ser un problema personal, conyugal, familiar,</a:t>
            </a:r>
            <a:br>
              <a:rPr sz="2000"/>
            </a:b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no se lo que está afectando tu estima o tu</a:t>
            </a:r>
            <a:br>
              <a:rPr sz="2000"/>
            </a:b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desempeño profesional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Pero una cosa si se.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No todo está perdido.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Todavía existe una cuerda y es </a:t>
            </a:r>
            <a:br>
              <a:rPr sz="2000"/>
            </a:b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tocando con ella que ejercerás tu talento.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Tocando con ella es que vibrarás.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14" presetSubtype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0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100"/>
                            </p:stCondLst>
                            <p:childTnLst>
                              <p:par>
                                <p:cTn id="212" nodeType="afterEffect" fill="hold" presetClass="entr" presetID="14" presetSubtype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4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200"/>
                            </p:stCondLst>
                            <p:childTnLst>
                              <p:par>
                                <p:cTn id="216" nodeType="afterEffect" fill="hold" presetClass="entr" presetID="14" presetSubtype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8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300"/>
                            </p:stCondLst>
                            <p:childTnLst>
                              <p:par>
                                <p:cTn id="220" nodeType="afterEffect" fill="hold" presetClass="entr" presetID="14" presetSubtype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2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400"/>
                            </p:stCondLst>
                            <p:childTnLst>
                              <p:par>
                                <p:cTn id="224" nodeType="afterEffect" fill="hold" presetClass="entr" presetID="14" presetSubtype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6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ntr" presetID="14" presetSubtype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0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600"/>
                            </p:stCondLst>
                            <p:childTnLst>
                              <p:par>
                                <p:cTn id="232" nodeType="afterEffect" fill="hold" presetClass="entr" presetID="14" presetSubtype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1219320" y="1066680"/>
            <a:ext cx="6778440" cy="49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Aprende a aceptar que la vida siempre te dejará</a:t>
            </a:r>
            <a:br>
              <a:rPr sz="2000"/>
            </a:b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una última cuerda.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Cuando estés desanimado, nunca desistas.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Aún existirá la cuerda de la persistencia inteligente, del</a:t>
            </a:r>
            <a:br>
              <a:rPr sz="2000"/>
            </a:b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“intentar una vez más",</a:t>
            </a:r>
            <a:br>
              <a:rPr sz="2000"/>
            </a:b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del dar un paso más con un enfoque nuevo.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Despierta el Paganini que existe dentro de ti</a:t>
            </a:r>
            <a:br>
              <a:rPr sz="2000"/>
            </a:b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y avanza para vencer.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Victoria es el arte de continuar,</a:t>
            </a:r>
            <a:br>
              <a:rPr sz="2000"/>
            </a:b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donde los otros resuelven parar.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4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1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700"/>
                            </p:stCondLst>
                            <p:childTnLst>
                              <p:par>
                                <p:cTn id="243" nodeType="afterEffect" fill="hold" presetClass="entr" presetID="14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5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400"/>
                            </p:stCondLst>
                            <p:childTnLst>
                              <p:par>
                                <p:cTn id="247" nodeType="afterEffect" fill="hold" presetClass="entr" presetID="14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9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100"/>
                            </p:stCondLst>
                            <p:childTnLst>
                              <p:par>
                                <p:cTn id="251" nodeType="afterEffect" fill="hold" presetClass="entr" presetID="14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3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800"/>
                            </p:stCondLst>
                            <p:childTnLst>
                              <p:par>
                                <p:cTn id="255" nodeType="afterEffect" fill="hold" presetClass="entr" presetID="14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7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3"/>
          <p:cNvSpPr/>
          <p:nvPr/>
        </p:nvSpPr>
        <p:spPr>
          <a:xfrm>
            <a:off x="1066680" y="457200"/>
            <a:ext cx="7239240" cy="64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Cuando todo parece desmoronarse, bríndate una oportunidad y continúa hacia adelante.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Toca la cuerda de la motivación y arráncale sonidos de</a:t>
            </a:r>
            <a:br>
              <a:rPr sz="2000"/>
            </a:b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resultados positivos. 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Pero antes pregúntate: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¿</a:t>
            </a: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Quién motiva al motivador?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Esto es: 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</a:rPr>
              <a:t>¿</a:t>
            </a: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Quién motiva tu cerebro,</a:t>
            </a:r>
            <a:br>
              <a:rPr sz="2000"/>
            </a:b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que motiva tu mano, que toca tu violín?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No te frustres, no te desesperes, recuerda: aún existe la última cuerda.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La cuerda del aprender de nuevo para deslumbrar y generar soluciones.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4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4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700"/>
                            </p:stCondLst>
                            <p:childTnLst>
                              <p:par>
                                <p:cTn id="266" nodeType="afterEffect" fill="hold" presetClass="entr" presetID="14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8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400"/>
                            </p:stCondLst>
                            <p:childTnLst>
                              <p:par>
                                <p:cTn id="270" nodeType="afterEffect" fill="hold" presetClass="entr" presetID="14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2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100"/>
                            </p:stCondLst>
                            <p:childTnLst>
                              <p:par>
                                <p:cTn id="274" nodeType="afterEffect" fill="hold" presetClass="entr" presetID="14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6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800"/>
                            </p:stCondLst>
                            <p:childTnLst>
                              <p:par>
                                <p:cTn id="278" nodeType="afterEffect" fill="hold" presetClass="entr" presetID="14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0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500"/>
                            </p:stCondLst>
                            <p:childTnLst>
                              <p:par>
                                <p:cTn id="282" nodeType="afterEffect" fill="hold" presetClass="entr" presetID="14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4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4200"/>
                            </p:stCondLst>
                            <p:childTnLst>
                              <p:par>
                                <p:cTn id="286" nodeType="afterEffect" fill="hold" presetClass="entr" presetID="14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8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1295280" y="685800"/>
            <a:ext cx="6858000" cy="58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Nunca la vida te romperá todas las cuerdas. 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Si los resultados están mal, es tu oportunidad de tocar la última cuerda, la de la imaginación que reinventa el futuro con innovación continua.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Es siempre la cuerda olvidada que te dará el mayor resultado.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Pero, si por acaso, estuvieras en el fondo del pozo, esta es tu oportunidad de tocar con la mejor cuerda del universo: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Creer en tí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	</a:t>
            </a:r>
            <a:r>
              <a:rPr b="0" lang="pt-BR" sz="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JL</a:t>
            </a:r>
            <a:endParaRPr b="1" lang="en-US" sz="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14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5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700"/>
                            </p:stCondLst>
                            <p:childTnLst>
                              <p:par>
                                <p:cTn id="297" nodeType="afterEffect" fill="hold" presetClass="entr" presetID="14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9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400"/>
                            </p:stCondLst>
                            <p:childTnLst>
                              <p:par>
                                <p:cTn id="301" nodeType="afterEffect" fill="hold" presetClass="entr" presetID="14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3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100"/>
                            </p:stCondLst>
                            <p:childTnLst>
                              <p:par>
                                <p:cTn id="305" nodeType="afterEffect" fill="hold" presetClass="entr" presetID="14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7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800"/>
                            </p:stCondLst>
                            <p:childTnLst>
                              <p:par>
                                <p:cTn id="309" nodeType="afterEffect" fill="hold" presetClass="entr" presetID="14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1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500"/>
                            </p:stCondLst>
                            <p:childTnLst>
                              <p:par>
                                <p:cTn id="313" nodeType="afterEffect" fill="hold" presetClass="entr" presetID="14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5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3"/>
          <p:cNvSpPr/>
          <p:nvPr/>
        </p:nvSpPr>
        <p:spPr>
          <a:xfrm>
            <a:off x="5562720" y="0"/>
            <a:ext cx="358128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s notas mágicas que salían de su violín tenían un sonido diferente, por eso nadie quería perder la oportunidad de ver su espectáculo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ransition spd="slow">
    <p:fade thruBlk="true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4" presetSubtype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633240" y="212760"/>
            <a:ext cx="716292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Una cierta noche, el palco de un auditorio repleto de admiradores estaba preparado para recibirlo.</a:t>
            </a:r>
            <a:br>
              <a:rPr sz="2400"/>
            </a:b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La orquestra entró y fue aplaudida.</a:t>
            </a:r>
            <a:br>
              <a:rPr sz="2400"/>
            </a:b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El maestro fue ovacionado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3962520" y="5394240"/>
            <a:ext cx="4724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Mas cuando la figura de Paganini surgió, triunfante, el público deliró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ransition spd="slow"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800"/>
                            </p:stCondLst>
                            <p:childTnLst>
                              <p:par>
                                <p:cTn id="31" nodeType="afterEffect" fill="hold" presetClass="entr" presetID="14" presetSubtype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1237680" y="5018040"/>
            <a:ext cx="77655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Breves y semibreves, fusas y semifusas, corcheas y</a:t>
            </a:r>
            <a:br>
              <a:rPr sz="2400"/>
            </a:b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semicorcheas parecen tener alas y volar con el toque</a:t>
            </a:r>
            <a:br>
              <a:rPr sz="2400"/>
            </a:b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de sus dedos encantados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1981080" y="609480"/>
            <a:ext cx="502920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Paganini coloca su violín</a:t>
            </a:r>
            <a:br>
              <a:rPr sz="2400"/>
            </a:b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en el hombro y lo que se escucha es indescriptible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ransition spd="slow">
    <p:fade thruBlk="true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4" presetSubtype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900"/>
                            </p:stCondLst>
                            <p:childTnLst>
                              <p:par>
                                <p:cTn id="42" nodeType="afterEffect" fill="hold" presetClass="entr" presetID="14" presetSubtype="10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violino paganini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-57240"/>
            <a:ext cx="9144000" cy="69724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609480" y="0"/>
            <a:ext cx="7391520" cy="23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De repente, un sonido extraño interrumpe 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el solaz de la platea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Una de las cuerdas del violín de Paganini se rompió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380880" y="2286000"/>
            <a:ext cx="213372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El maestro paró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380880" y="3886200"/>
            <a:ext cx="22100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La orquestra paró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09480" y="5562720"/>
            <a:ext cx="2743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El público paró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5562720" y="2133720"/>
            <a:ext cx="28191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Pero Paganini no paró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4114800" y="4952880"/>
            <a:ext cx="480060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Mirando su partitura, continúa arrancando sonidos deliciosos de un violín con problemas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ransition spd="slow" advTm="5000">
    <p:fade thruBlk="true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4" presetSubtype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800"/>
                            </p:stCondLst>
                            <p:childTnLst>
                              <p:par>
                                <p:cTn id="53" nodeType="afterEffect" fill="hold" presetClass="entr" presetID="14" presetSubtype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600"/>
                            </p:stCondLst>
                            <p:childTnLst>
                              <p:par>
                                <p:cTn id="57" nodeType="afterEffect" fill="hold" presetClass="entr" presetID="14" presetSubtype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400"/>
                            </p:stCondLst>
                            <p:childTnLst>
                              <p:par>
                                <p:cTn id="61" nodeType="afterEffect" fill="hold" presetClass="entr" presetID="23" presetSubtype="27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7900"/>
                            </p:stCondLst>
                            <p:childTnLst>
                              <p:par>
                                <p:cTn id="66" nodeType="afterEffect" fill="hold" presetClass="entr" presetID="23" presetSubtype="27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9900"/>
                            </p:stCondLst>
                            <p:childTnLst>
                              <p:par>
                                <p:cTn id="71" nodeType="afterEffect" fill="hold" presetClass="entr" presetID="23" presetSubtype="27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1900"/>
                            </p:stCondLst>
                            <p:childTnLst>
                              <p:par>
                                <p:cTn id="76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4400"/>
                            </p:stCondLst>
                            <p:childTnLst>
                              <p:par>
                                <p:cTn id="81" nodeType="afterEffect" fill="hold" presetClass="entr" presetID="14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0" y="304920"/>
            <a:ext cx="434340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Antes de que el público se serenara, </a:t>
            </a:r>
            <a:br>
              <a:rPr sz="2400"/>
            </a:b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otro sonido perturbador derrumba la atención de los asistentes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28600" y="380880"/>
            <a:ext cx="38862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El maestro y la orquesta, exaltados, vuelven a tocar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152280" y="2819520"/>
            <a:ext cx="266724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Otra cuerda del violín de Paganini se rompe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4191120" y="2590920"/>
            <a:ext cx="220968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El maestro paró nuevamente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5105520" y="4114800"/>
            <a:ext cx="2514600" cy="17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La orquesta paró nuevamente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2819520" y="5791320"/>
            <a:ext cx="30477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Paganini no paró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ransition spd="slow">
    <p:fade thruBlk="true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4" presetSubtype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800"/>
                            </p:stCondLst>
                            <p:childTnLst>
                              <p:par>
                                <p:cTn id="92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300"/>
                            </p:stCondLst>
                            <p:childTnLst>
                              <p:par>
                                <p:cTn id="96" nodeType="afterEffect" fill="hold" presetClass="entr" presetID="14" presetSubtype="10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300"/>
                            </p:stCondLst>
                            <p:childTnLst>
                              <p:par>
                                <p:cTn id="100" nodeType="afterEffect" fill="hold" presetClass="entr" presetID="23" presetSubtype="27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2800"/>
                            </p:stCondLst>
                            <p:childTnLst>
                              <p:par>
                                <p:cTn id="105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300"/>
                            </p:stCondLst>
                            <p:childTnLst>
                              <p:par>
                                <p:cTn id="110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0" y="0"/>
            <a:ext cx="6458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mo si nada hubiese sucedido, él olvidó las dificuldades y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vanzó sacando sonidos de lo imposible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0" y="2133720"/>
            <a:ext cx="3809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 maestro y la orquesta, impresionados volvieron a tocar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5638680" y="4191120"/>
            <a:ext cx="32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ero el público no podría imaginar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o que estaba por suceder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1371960" y="6095880"/>
            <a:ext cx="71607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odas las personas, atónitas, exclamaron OHHH!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ransition spd="slow">
    <p:fade thruBlk="true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4" presetSubtype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100"/>
                            </p:stCondLst>
                            <p:childTnLst>
                              <p:par>
                                <p:cTn id="122" nodeType="afterEffect" fill="hold" presetClass="entr" presetID="14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600"/>
                            </p:stCondLst>
                            <p:childTnLst>
                              <p:par>
                                <p:cTn id="126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9100"/>
                            </p:stCondLst>
                            <p:childTnLst>
                              <p:par>
                                <p:cTn id="130" nodeType="afterEffect" fill="hold" presetClass="entr" presetID="23" presetSubtype="28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violino paganini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1752480" y="228600"/>
            <a:ext cx="655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Una tercera cuerda del violín de Paganini se rompe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5087880" y="2009880"/>
            <a:ext cx="340416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El maestro se paralizó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La orquesta paró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La respiración del 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público se detuvo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4419720" y="441972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Pero Paganini continuó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1600200" y="5181480"/>
            <a:ext cx="7238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Como si fuese un contorsionista musical, arranca todos los sonidos de la única cuerda que sobrara de su violín destruido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ransition spd="slow">
    <p:fade thruBlk="true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4" presetSubtype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800"/>
                            </p:stCondLst>
                            <p:childTnLst>
                              <p:par>
                                <p:cTn id="142" nodeType="afterEffect" fill="hold" presetClass="entr" presetID="23" presetSubtype="27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300"/>
                            </p:stCondLst>
                            <p:childTnLst>
                              <p:par>
                                <p:cTn id="147" nodeType="afterEffect" fill="hold" presetClass="entr" presetID="23" presetSubtype="27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9800"/>
                            </p:stCondLst>
                            <p:childTnLst>
                              <p:par>
                                <p:cTn id="152" nodeType="afterEffect" fill="hold" presetClass="entr" presetID="23" presetSubtype="27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4300"/>
                            </p:stCondLst>
                            <p:childTnLst>
                              <p:par>
                                <p:cTn id="157" nodeType="afterEffect" fill="hold" presetClass="entr" presetID="23" presetSubtype="27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8800"/>
                            </p:stCondLst>
                            <p:childTnLst>
                              <p:par>
                                <p:cTn id="162" nodeType="afterEffect" fill="hold" presetClass="entr" presetID="23" presetSubtype="27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3300"/>
                            </p:stCondLst>
                            <p:childTnLst>
                              <p:par>
                                <p:cTn id="167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380880" y="4648320"/>
            <a:ext cx="46483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Ninguna nota musical fue olvidada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El maestro se anima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La orquesta se motiva.</a:t>
            </a:r>
            <a:r>
              <a:rPr b="0" lang="pt-BR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ransition spd="slow">
    <p:fade thruBlk="true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3" presetSubtype="27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7T17:47:02Z</dcterms:created>
  <dc:creator>Mari Caruso Cunha</dc:creator>
  <dc:description/>
  <dc:language>en-US</dc:language>
  <cp:lastModifiedBy>Betty</cp:lastModifiedBy>
  <dcterms:modified xsi:type="dcterms:W3CDTF">2009-12-07T01:28:17Z</dcterms:modified>
  <cp:revision>17</cp:revision>
  <dc:subject/>
  <dc:title>Apresentação do PowerPoint</dc:title>
</cp:coreProperties>
</file>