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CB0-8C01-449B-8B8A-5E0E9DD7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BFD-E206-4717-996B-3E5F64B0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B84-9A47-4EE2-B64B-7CE4980B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37B-5EAF-4D3C-A90D-03909621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270-9623-49EC-BC72-CF276479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B5E-5ED7-4603-AAA3-3099F2A5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DBB-9158-4567-91AD-BC3881BB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615-A261-43DB-A7DC-AB947133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9CA-EA8A-4A10-B6E1-87C83E3C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6E0-0C61-40FB-92E6-B4056E4B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02A-F1A4-42DE-9C21-7E19F8F8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D73-785B-46A5-B69F-7729F16E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A989-145D-4E8B-8458-52C1F483B5E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mpetenci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4200" y="357120"/>
          <a:ext cx="8715600" cy="6359760"/>
        </p:xfrm>
        <a:graphic>
          <a:graphicData uri="http://schemas.openxmlformats.org/drawingml/2006/table">
            <a:tbl>
              <a:tblPr/>
              <a:tblGrid>
                <a:gridCol w="1235160"/>
                <a:gridCol w="1138320"/>
                <a:gridCol w="1090440"/>
                <a:gridCol w="1113120"/>
                <a:gridCol w="1234800"/>
                <a:gridCol w="1451160"/>
                <a:gridCol w="145260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ONENTES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PO DE APRENDIZ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ÁMBITOS DE CONTEN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GORÍ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BILIDAD 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B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p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hos y princip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ntificar Localizar Obser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ibir        Revis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noc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er          Describ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u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acterizar Reproducir    Señal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52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tre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ha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desempeña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ones y 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áli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en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upar      Aso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r      Reu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r    Clas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rarqu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bicar    Secue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d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pe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quejar    Desta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ar      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8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r      Com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ro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inguir     Eleg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cular     Deduc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cir      Su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nos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n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uar    Interpre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fi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ordenar  Reorgan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bujar  Ejempl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tegrar  Represe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der Defi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ecer  Expl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2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  Opi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ar   Pro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eciar   Cri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xionar   Val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um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43" name="Text Box 83"/>
          <p:cNvSpPr/>
          <p:nvPr/>
        </p:nvSpPr>
        <p:spPr>
          <a:xfrm>
            <a:off x="611280" y="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cc0000"/>
                </a:solidFill>
                <a:latin typeface="Calibri"/>
              </a:rPr>
              <a:t>CUADRO MÁ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85"/>
          <p:cNvSpPr/>
          <p:nvPr/>
        </p:nvSpPr>
        <p:spPr>
          <a:xfrm flipH="1">
            <a:off x="-360" y="5643720"/>
            <a:ext cx="37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1:14:10Z</dcterms:created>
  <dc:creator>Betty</dc:creator>
  <dc:description/>
  <dc:language>en-US</dc:language>
  <cp:lastModifiedBy>Betty</cp:lastModifiedBy>
  <dcterms:modified xsi:type="dcterms:W3CDTF">2010-01-12T21:19:00Z</dcterms:modified>
  <cp:revision>1</cp:revision>
  <dc:subject/>
  <dc:title>Competencias </dc:title>
</cp:coreProperties>
</file>