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BAB-3EE0-46D1-BB6E-91B8F89C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457-AC60-4FDF-BBA4-967C8FEB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783-EEC6-46B8-9829-6ECFEA1D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5BD-CF6D-4950-9A2F-DA8CBA7C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385-379F-46A0-8A50-E153C1A0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C9A-CD19-4C43-BC41-3750D3F7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7B6-E0B3-453C-BA0D-A7B8CB91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EC2-B318-4E21-A16F-ED4C869A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584-1DAC-4980-A18D-6A94B7CD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47C-D497-401F-B749-ADE04D9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97B-9329-49C6-88D7-9573236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375-CA25-4755-9579-27F544FE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3E04-5D1A-4B5B-92E2-3AD5988F7C7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mpete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4200" y="357120"/>
          <a:ext cx="8715600" cy="6359760"/>
        </p:xfrm>
        <a:graphic>
          <a:graphicData uri="http://schemas.openxmlformats.org/drawingml/2006/table">
            <a:tbl>
              <a:tblPr/>
              <a:tblGrid>
                <a:gridCol w="1235160"/>
                <a:gridCol w="1138320"/>
                <a:gridCol w="1090440"/>
                <a:gridCol w="1113120"/>
                <a:gridCol w="1234800"/>
                <a:gridCol w="1451160"/>
                <a:gridCol w="145260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NENTES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O DE APRENDIZ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ÁMBITOS DE CONTE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GOR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BILIDAD 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B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p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hos y princip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icar Localizar Obser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ibir        Revi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oc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ocer          Describ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u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acterizar Reproducir    Señal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52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tre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ha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desempeña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ones y 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áli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e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upar      Aso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r      Reu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r    Clas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rarqu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bicar    Secuenci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d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pe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ar    Desta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ar      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8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r      Compa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ro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inguir     Eleg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ular     Deduc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cir      Su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nos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n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uar    Interpre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firm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ordenar  Reorgan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ci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bujar  Ejempl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tegrar  Represen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nder Defin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ecer  Expl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o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2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  Opi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ar   Propon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ber 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eciar   Criti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xionar   Valor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umi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43" name="Text Box 83"/>
          <p:cNvSpPr/>
          <p:nvPr/>
        </p:nvSpPr>
        <p:spPr>
          <a:xfrm>
            <a:off x="611280" y="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cc0000"/>
                </a:solidFill>
                <a:latin typeface="Calibri"/>
              </a:rPr>
              <a:t>CUADRO MÁ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85"/>
          <p:cNvSpPr/>
          <p:nvPr/>
        </p:nvSpPr>
        <p:spPr>
          <a:xfrm flipH="1">
            <a:off x="-360" y="5643720"/>
            <a:ext cx="37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1:14:10Z</dcterms:created>
  <dc:creator>Betty</dc:creator>
  <dc:description/>
  <dc:language>en-US</dc:language>
  <cp:lastModifiedBy>Betty</cp:lastModifiedBy>
  <dcterms:modified xsi:type="dcterms:W3CDTF">2010-01-12T21:19:00Z</dcterms:modified>
  <cp:revision>1</cp:revision>
  <dc:subject/>
  <dc:title>Competencias </dc:title>
</cp:coreProperties>
</file>