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83D-0476-4291-B85E-E8D3D93F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542-A550-480F-B6D7-3B152536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A4A-435F-4836-930C-66A057D9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2A7-5231-44C5-9327-CEF5618B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248-70C9-481E-8AD8-99CBA1D3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541-94D2-4E38-AA5D-B9B333D6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5DA-495D-41E3-A0EA-F322FDB1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748-6D68-4B4D-8870-C225F96D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F49-F770-42BE-B8B5-C88A2239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505-1129-4528-A7F5-9608225E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0C2-8B1D-40C5-AA1D-80E409D5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FC6-FD7A-417F-ADC9-34C53A32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7579-F572-4F15-A708-F8EAFE345ADE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ompetenci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4200" y="357120"/>
          <a:ext cx="8715600" cy="6359760"/>
        </p:xfrm>
        <a:graphic>
          <a:graphicData uri="http://schemas.openxmlformats.org/drawingml/2006/table">
            <a:tbl>
              <a:tblPr/>
              <a:tblGrid>
                <a:gridCol w="1235160"/>
                <a:gridCol w="1138320"/>
                <a:gridCol w="1090440"/>
                <a:gridCol w="1113120"/>
                <a:gridCol w="1234800"/>
                <a:gridCol w="1451160"/>
                <a:gridCol w="145260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ONENTES DE LAS COMPE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PO DE APRENDIZA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ÁMBITOS DE CONTEN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EGORÍ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BILIDAD COGNI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B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ep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chos y princip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oc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erv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ntificar Localizar Obser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ibir        Revis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noc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e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ocer          Describ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un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acterizar Reproducir    Señal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9852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tre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ha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desempeña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iones y estrateg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mpe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áli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den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upar      Aso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r      Reun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a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r    Clas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rarqu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bicar    Secuen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id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pe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quejar    Desta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ivar      Util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48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zar      Compa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ron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inguir     Eleg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ci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cular     Deduc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cir      Supon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nost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ínt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re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actuar    Interpre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firm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ordenar  Reorgan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ci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bujar  Ejempl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g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integrar  Represen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n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nder Defin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ecer  Expl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2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  Opi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bo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ear   Propon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eciar   Crit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lexionar   Valo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um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43" name="Text Box 83"/>
          <p:cNvSpPr/>
          <p:nvPr/>
        </p:nvSpPr>
        <p:spPr>
          <a:xfrm>
            <a:off x="611280" y="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cc0000"/>
                </a:solidFill>
                <a:latin typeface="Calibri"/>
              </a:rPr>
              <a:t>CUADRO MÁ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85"/>
          <p:cNvSpPr/>
          <p:nvPr/>
        </p:nvSpPr>
        <p:spPr>
          <a:xfrm flipH="1">
            <a:off x="-360" y="5643720"/>
            <a:ext cx="37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1:14:10Z</dcterms:created>
  <dc:creator>Betty</dc:creator>
  <dc:description/>
  <dc:language>en-US</dc:language>
  <cp:lastModifiedBy>Betty</cp:lastModifiedBy>
  <dcterms:modified xsi:type="dcterms:W3CDTF">2010-01-12T21:19:00Z</dcterms:modified>
  <cp:revision>1</cp:revision>
  <dc:subject/>
  <dc:title>Competencias </dc:title>
</cp:coreProperties>
</file>