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EB5-A989-4C8B-9512-FA983670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853-BA7D-498A-AABB-1FDC2755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63A-F731-41CD-AE2A-96648FE6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C45-7281-433A-A0BD-112FD8C2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1EE-C8D5-4B65-81BE-E192F4C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49A-8328-4FF3-A452-ED7D82B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D47-A855-4ED5-BB2A-21A98812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827-A14F-4F66-8085-876BB44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0B1-367A-4918-8849-69F9825C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78E-B080-4C3D-BCB3-E34128F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B23-E9C5-40CE-A0C0-6BE88DB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3AE-C928-4BC8-B34C-08347EC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EB2-F310-4A6F-9C46-A68878B6275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mpete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357120"/>
          <a:ext cx="8715600" cy="6359760"/>
        </p:xfrm>
        <a:graphic>
          <a:graphicData uri="http://schemas.openxmlformats.org/drawingml/2006/table">
            <a:tbl>
              <a:tblPr/>
              <a:tblGrid>
                <a:gridCol w="1235160"/>
                <a:gridCol w="1138320"/>
                <a:gridCol w="1090440"/>
                <a:gridCol w="1113120"/>
                <a:gridCol w="1234800"/>
                <a:gridCol w="1451160"/>
                <a:gridCol w="145260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NENTES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E APRENDIZ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ÁMBITOS DE CONTE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GOR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BILIDAD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B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hos y princi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r Localizar Obser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ibir        Revi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oc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er          Describ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acterizar Reproducir    Señ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52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tre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ha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desempeñ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y 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ál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upar      Aso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r      Reu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r    Clas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rarqu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bicar    Secue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d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pe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ar    Desta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ar      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r      Com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ro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nguir     Eleg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r     Deduc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ir      Su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nos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n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uar    Interpre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fi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ordenar  Reorgan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bujar  Ejempl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tegrar  Represe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der Defi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ecer  Expl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  Opi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ar   Pro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eciar   Cri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onar   Val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um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83"/>
          <p:cNvSpPr/>
          <p:nvPr/>
        </p:nvSpPr>
        <p:spPr>
          <a:xfrm>
            <a:off x="611280" y="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cc0000"/>
                </a:solidFill>
                <a:latin typeface="Calibri"/>
              </a:rPr>
              <a:t>CUADRO MÁ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5"/>
          <p:cNvSpPr/>
          <p:nvPr/>
        </p:nvSpPr>
        <p:spPr>
          <a:xfrm flipH="1">
            <a:off x="-360" y="5643720"/>
            <a:ext cx="37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1:14:10Z</dcterms:created>
  <dc:creator>Betty</dc:creator>
  <dc:description/>
  <dc:language>en-US</dc:language>
  <cp:lastModifiedBy>Betty</cp:lastModifiedBy>
  <dcterms:modified xsi:type="dcterms:W3CDTF">2010-01-12T21:19:00Z</dcterms:modified>
  <cp:revision>1</cp:revision>
  <dc:subject/>
  <dc:title>Competencias </dc:title>
</cp:coreProperties>
</file>