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E78-3C8F-4586-A018-1A1FC9B4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DDE-FFED-4B09-B1A2-ADC2E096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FC4-C06E-48EC-9AB5-F992F976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46C-E4BB-4077-B507-275B137F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7BD-4F45-4E55-B858-4C8F0D33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DDC-CBBB-48F3-8D23-D9816F6F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A5E-02C2-43CE-B117-AD836B8C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48A-6D07-42CA-9908-9A0C45FF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9F0-8D33-429A-92E7-009AFA74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D8B-F18B-4440-9E62-9CB76A54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F53-6787-4338-B20E-EBACB384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19A-824A-4C4E-B600-C2056792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C410-439C-409C-AD2F-154CB5A7486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mpete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4200" y="357120"/>
          <a:ext cx="8715600" cy="6359760"/>
        </p:xfrm>
        <a:graphic>
          <a:graphicData uri="http://schemas.openxmlformats.org/drawingml/2006/table">
            <a:tbl>
              <a:tblPr/>
              <a:tblGrid>
                <a:gridCol w="1235160"/>
                <a:gridCol w="1138320"/>
                <a:gridCol w="1090440"/>
                <a:gridCol w="1113120"/>
                <a:gridCol w="1234800"/>
                <a:gridCol w="1451160"/>
                <a:gridCol w="145260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NENTES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O DE APRENDIZ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ÁMBITOS DE CONTE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GOR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BILIDAD 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B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p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hos y princip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icar Localizar Obser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ibir        Revi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oc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er          Describ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u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acterizar Reproducir    Señal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52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tre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ha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desempeña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ones y 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áli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e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upar      Aso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r      Reu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r    Clas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rarqu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bicar    Secue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d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pe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ar    Desta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ar      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8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r      Com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ro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inguir     Eleg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ular     Deduc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cir      Su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nos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n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uar    Interpre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fi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ordenar  Reorgan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bujar  Ejempl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tegrar  Represe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der Defi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ecer  Expl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2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  Opi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ar   Pro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eciar   Cri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xionar   Val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um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43" name="Text Box 83"/>
          <p:cNvSpPr/>
          <p:nvPr/>
        </p:nvSpPr>
        <p:spPr>
          <a:xfrm>
            <a:off x="611280" y="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cc0000"/>
                </a:solidFill>
                <a:latin typeface="Calibri"/>
              </a:rPr>
              <a:t>CUADRO MÁ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85"/>
          <p:cNvSpPr/>
          <p:nvPr/>
        </p:nvSpPr>
        <p:spPr>
          <a:xfrm flipH="1">
            <a:off x="-360" y="5643720"/>
            <a:ext cx="37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1:14:10Z</dcterms:created>
  <dc:creator>Betty</dc:creator>
  <dc:description/>
  <dc:language>en-US</dc:language>
  <cp:lastModifiedBy>Betty</cp:lastModifiedBy>
  <dcterms:modified xsi:type="dcterms:W3CDTF">2010-01-12T21:19:00Z</dcterms:modified>
  <cp:revision>1</cp:revision>
  <dc:subject/>
  <dc:title>Competencias </dc:title>
</cp:coreProperties>
</file>